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67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057400" y="3839040"/>
            <a:ext cx="67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53248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057400" y="38390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532480" y="38390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350240" y="13712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643440" y="13712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057400" y="38390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350240" y="38390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643440" y="38390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2057400" y="1371240"/>
            <a:ext cx="67816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6781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532480" y="137124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66391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32480" y="137124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057400" y="38390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057400" y="1371240"/>
            <a:ext cx="67816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53248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532480" y="38390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53248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057400" y="3839040"/>
            <a:ext cx="67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67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057400" y="3839040"/>
            <a:ext cx="67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53248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057400" y="38390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532480" y="38390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350240" y="13712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643440" y="13712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2057400" y="38390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4350240" y="38390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643440" y="3839040"/>
            <a:ext cx="2183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6781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532480" y="137124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66391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32480" y="137124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057400" y="38390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3309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53248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532480" y="38390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32480" y="1371240"/>
            <a:ext cx="3309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057400" y="3839040"/>
            <a:ext cx="6781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828800" y="1143000"/>
            <a:ext cx="7162920" cy="52578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52280" y="152280"/>
            <a:ext cx="8839440" cy="8827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rcRect l="0" t="0" r="0" b="48785"/>
          <a:stretch/>
        </p:blipFill>
        <p:spPr>
          <a:xfrm>
            <a:off x="345960" y="6485040"/>
            <a:ext cx="1444680" cy="2556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152280" y="1143000"/>
            <a:ext cx="1524240" cy="52578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639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iemens Sans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2057400" y="1371240"/>
            <a:ext cx="6781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emens Sans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  <a:p>
            <a:pPr lvl="1" marL="571680" indent="-187560"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emens Sans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  <a:p>
            <a:pPr lvl="2" marL="950760" indent="-188640"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emens Sans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  <a:p>
            <a:pPr lvl="3" marL="1333440" indent="-187200"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emens Sans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  <a:p>
            <a:pPr lvl="4" marL="1712880" indent="-189000">
              <a:spcBef>
                <a:spcPts val="4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emens Sans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  <a:p>
            <a:pPr lvl="5" marL="1712880" indent="-1890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emens Sans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  <a:p>
            <a:pPr lvl="6" marL="1712880" indent="-1890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emens Sans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7" name=""/>
          <p:cNvSpPr/>
          <p:nvPr/>
        </p:nvSpPr>
        <p:spPr>
          <a:xfrm>
            <a:off x="7201080" y="6492960"/>
            <a:ext cx="18158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iemens Sans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8048520" y="152280"/>
            <a:ext cx="935280" cy="874440"/>
            <a:chOff x="8048520" y="152280"/>
            <a:chExt cx="935280" cy="874440"/>
          </a:xfrm>
        </p:grpSpPr>
        <p:pic>
          <p:nvPicPr>
            <p:cNvPr id="9" name="" descr=""/>
            <p:cNvPicPr/>
            <p:nvPr/>
          </p:nvPicPr>
          <p:blipFill>
            <a:blip r:embed="rId5"/>
            <a:stretch/>
          </p:blipFill>
          <p:spPr>
            <a:xfrm>
              <a:off x="8048520" y="152280"/>
              <a:ext cx="935280" cy="55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" descr=""/>
            <p:cNvPicPr/>
            <p:nvPr/>
          </p:nvPicPr>
          <p:blipFill>
            <a:blip r:embed="rId6"/>
            <a:srcRect l="0" t="4620" r="8867" b="0"/>
            <a:stretch/>
          </p:blipFill>
          <p:spPr>
            <a:xfrm>
              <a:off x="8048520" y="708120"/>
              <a:ext cx="935280" cy="31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" name=""/>
          <p:cNvSpPr/>
          <p:nvPr/>
        </p:nvSpPr>
        <p:spPr>
          <a:xfrm>
            <a:off x="8529480" y="6480"/>
            <a:ext cx="601920" cy="57132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7086600" y="152280"/>
            <a:ext cx="920880" cy="881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Siemens Sans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Siemens Sans"/>
              </a:rPr>
              <a:t>Gener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4120560" y="6526080"/>
            <a:ext cx="8740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iemens Sans"/>
              </a:rPr>
              <a:t>- </a:t>
            </a:r>
            <a:fld id="{559C44F4-A0C2-4051-99EE-180C19E9E431}" type="slidenum">
              <a:rPr b="0" lang="en-US" sz="900" spc="-1" strike="noStrike">
                <a:solidFill>
                  <a:srgbClr val="000000"/>
                </a:solidFill>
                <a:latin typeface="Siemens Sans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Siemens Sans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809720" y="6492960"/>
            <a:ext cx="11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0000"/>
                </a:solidFill>
                <a:latin typeface="Siemens Sans"/>
              </a:rPr>
              <a:t>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8839440" cy="4800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8604360" y="27000"/>
            <a:ext cx="504720" cy="50328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rcRect l="0" t="0" r="0" b="48785"/>
          <a:stretch/>
        </p:blipFill>
        <p:spPr>
          <a:xfrm>
            <a:off x="345960" y="6485040"/>
            <a:ext cx="1444680" cy="255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52280" y="4734000"/>
            <a:ext cx="8839440" cy="166680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1800" y="533412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iemens San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56" name=""/>
          <p:cNvSpPr/>
          <p:nvPr/>
        </p:nvSpPr>
        <p:spPr>
          <a:xfrm>
            <a:off x="7201080" y="6492960"/>
            <a:ext cx="18158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iemens Sans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319720" y="2381400"/>
            <a:ext cx="36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65560" y="6416640"/>
            <a:ext cx="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7640" y="202680"/>
            <a:ext cx="6985080" cy="69228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Siemens Sans"/>
              </a:rPr>
              <a:t>85G Hero roadmap scenario </a:t>
            </a:r>
            <a:br>
              <a:rPr sz="2400"/>
            </a:br>
            <a:r>
              <a:rPr b="1" lang="en-GB" sz="1600" spc="-1" strike="noStrike">
                <a:solidFill>
                  <a:srgbClr val="000000"/>
                </a:solidFill>
                <a:latin typeface="Siemens Sans"/>
              </a:rPr>
              <a:t>Status November 26th, 04 – (19 products incl. 4 UMTS) –</a:t>
            </a:r>
            <a:endParaRPr b="1" lang="en-US" sz="16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97" name=""/>
          <p:cNvSpPr/>
          <p:nvPr/>
        </p:nvSpPr>
        <p:spPr>
          <a:xfrm>
            <a:off x="141120" y="1006560"/>
            <a:ext cx="885672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25520" y="6068880"/>
            <a:ext cx="8175600" cy="426960"/>
            <a:chOff x="425520" y="6068880"/>
            <a:chExt cx="8175600" cy="426960"/>
          </a:xfrm>
        </p:grpSpPr>
        <p:grpSp>
          <p:nvGrpSpPr>
            <p:cNvPr id="99" name=""/>
            <p:cNvGrpSpPr/>
            <p:nvPr/>
          </p:nvGrpSpPr>
          <p:grpSpPr>
            <a:xfrm>
              <a:off x="425520" y="6284880"/>
              <a:ext cx="8175600" cy="210960"/>
              <a:chOff x="425520" y="6284880"/>
              <a:chExt cx="8175600" cy="210960"/>
            </a:xfrm>
          </p:grpSpPr>
          <p:sp>
            <p:nvSpPr>
              <p:cNvPr id="100" name=""/>
              <p:cNvSpPr/>
              <p:nvPr/>
            </p:nvSpPr>
            <p:spPr>
              <a:xfrm>
                <a:off x="425520" y="6284880"/>
                <a:ext cx="8175600" cy="21096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850200" y="6305400"/>
                <a:ext cx="1328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FY 20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425520" y="6068880"/>
              <a:ext cx="8170200" cy="201600"/>
              <a:chOff x="425520" y="6068880"/>
              <a:chExt cx="8170200" cy="201600"/>
            </a:xfrm>
          </p:grpSpPr>
          <p:sp>
            <p:nvSpPr>
              <p:cNvPr id="103" name=""/>
              <p:cNvSpPr/>
              <p:nvPr/>
            </p:nvSpPr>
            <p:spPr>
              <a:xfrm>
                <a:off x="425520" y="6068880"/>
                <a:ext cx="2027160" cy="2016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471400" y="6068880"/>
                <a:ext cx="2027160" cy="2016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568920" y="6068880"/>
                <a:ext cx="2026800" cy="2016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520880" y="6068880"/>
                <a:ext cx="2027160" cy="2016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911160" y="6070680"/>
                <a:ext cx="971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Q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922480" y="6070680"/>
                <a:ext cx="971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Q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979880" y="6070680"/>
                <a:ext cx="971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Q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011720" y="6070680"/>
                <a:ext cx="971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Q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" name=""/>
          <p:cNvGrpSpPr/>
          <p:nvPr/>
        </p:nvGrpSpPr>
        <p:grpSpPr>
          <a:xfrm>
            <a:off x="422280" y="1225440"/>
            <a:ext cx="8165880" cy="420480"/>
            <a:chOff x="422280" y="1225440"/>
            <a:chExt cx="8165880" cy="420480"/>
          </a:xfrm>
        </p:grpSpPr>
        <p:sp>
          <p:nvSpPr>
            <p:cNvPr id="112" name=""/>
            <p:cNvSpPr/>
            <p:nvPr/>
          </p:nvSpPr>
          <p:spPr>
            <a:xfrm>
              <a:off x="2467080" y="1444320"/>
              <a:ext cx="2023920" cy="20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59560" y="1444320"/>
              <a:ext cx="2023920" cy="20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22280" y="1225440"/>
              <a:ext cx="8165880" cy="2109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917800" y="1445760"/>
              <a:ext cx="9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Q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18160" y="1245960"/>
              <a:ext cx="1328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FY 200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00920" y="1445760"/>
              <a:ext cx="9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Q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13320" y="1444320"/>
              <a:ext cx="2025360" cy="20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22280" y="1444320"/>
              <a:ext cx="2025720" cy="20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906480" y="1445760"/>
              <a:ext cx="9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970520" y="1445760"/>
              <a:ext cx="9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Q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245916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0072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55020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57880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0200" y="1486080"/>
            <a:ext cx="0" cy="475128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71880" y="1650960"/>
            <a:ext cx="4226040" cy="4183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3600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63680" y="1657440"/>
            <a:ext cx="1984320" cy="1334880"/>
          </a:xfrm>
          <a:custGeom>
            <a:avLst/>
            <a:gdLst/>
            <a:ahLst/>
            <a:rect l="l" t="t" r="r" b="b"/>
            <a:pathLst>
              <a:path w="4309" h="1859">
                <a:moveTo>
                  <a:pt x="0" y="0"/>
                </a:moveTo>
                <a:lnTo>
                  <a:pt x="4309" y="0"/>
                </a:lnTo>
                <a:lnTo>
                  <a:pt x="4309" y="1859"/>
                </a:lnTo>
                <a:lnTo>
                  <a:pt x="0" y="1859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067360" y="3019320"/>
            <a:ext cx="519120" cy="1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94000" y="3502080"/>
            <a:ext cx="519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49960" y="3494160"/>
            <a:ext cx="85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95680" y="2913120"/>
            <a:ext cx="1092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461360" y="5481720"/>
            <a:ext cx="83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15320" y="2311560"/>
            <a:ext cx="84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602560" y="3106800"/>
            <a:ext cx="85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87200" y="5572080"/>
            <a:ext cx="1228680" cy="304560"/>
            <a:chOff x="187200" y="5572080"/>
            <a:chExt cx="1228680" cy="304560"/>
          </a:xfrm>
        </p:grpSpPr>
        <p:sp>
          <p:nvSpPr>
            <p:cNvPr id="137" name=""/>
            <p:cNvSpPr/>
            <p:nvPr/>
          </p:nvSpPr>
          <p:spPr>
            <a:xfrm>
              <a:off x="718920" y="5572080"/>
              <a:ext cx="6969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Albatr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Basic robus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7200" y="558468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10/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93960" y="1806480"/>
            <a:ext cx="1631520" cy="304560"/>
            <a:chOff x="93960" y="1806480"/>
            <a:chExt cx="1631520" cy="304560"/>
          </a:xfrm>
        </p:grpSpPr>
        <p:sp>
          <p:nvSpPr>
            <p:cNvPr id="140" name=""/>
            <p:cNvSpPr/>
            <p:nvPr/>
          </p:nvSpPr>
          <p:spPr>
            <a:xfrm>
              <a:off x="93960" y="185760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10/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0720" y="1806480"/>
              <a:ext cx="10047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Wolf 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UMTS Multimedia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7254720" y="3724200"/>
            <a:ext cx="860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21160" y="5014800"/>
            <a:ext cx="334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Siemens Sans"/>
              </a:rPr>
              <a:t>11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39720" y="4925880"/>
            <a:ext cx="93348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Siemens Sans"/>
              </a:rPr>
              <a:t>Flamin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i="1" lang="de-DE" sz="800" spc="-1" strike="noStrike">
                <a:solidFill>
                  <a:srgbClr val="000000"/>
                </a:solidFill>
                <a:latin typeface="Siemens Sans"/>
              </a:rPr>
              <a:t>Stylish&amp;sm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i="1" lang="de-DE" sz="800" spc="-1" strike="noStrike">
                <a:solidFill>
                  <a:srgbClr val="000000"/>
                </a:solidFill>
                <a:latin typeface="Siemens Sans"/>
              </a:rPr>
              <a:t>affordable sli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79600" y="2589120"/>
            <a:ext cx="1109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Siemens Sans"/>
              </a:rPr>
              <a:t>Wolf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Siemens Sans"/>
              </a:rPr>
              <a:t>(UMTS Busines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32320" y="2635200"/>
            <a:ext cx="334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Siemens Sans"/>
              </a:rPr>
              <a:t>11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16040" y="1728720"/>
            <a:ext cx="860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000000"/>
                </a:solidFill>
                <a:uFillTx/>
                <a:latin typeface="Siemens Sans"/>
              </a:rPr>
              <a:t>defined</a:t>
            </a:r>
            <a:r>
              <a:rPr b="1" i="1" lang="de-DE" sz="1000" spc="-1" strike="noStrike" u="sng">
                <a:solidFill>
                  <a:srgbClr val="000000"/>
                </a:solidFill>
                <a:uFillTx/>
                <a:latin typeface="Siemens Sans"/>
              </a:rPr>
              <a:t> in 75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41280" y="4424400"/>
            <a:ext cx="223920" cy="216000"/>
          </a:xfrm>
          <a:prstGeom prst="flowChartSort">
            <a:avLst/>
          </a:prstGeom>
          <a:solidFill>
            <a:srgbClr val="ff9933"/>
          </a:solidFill>
          <a:ln w="9360">
            <a:solidFill>
              <a:srgbClr val="dddddd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826920" y="4424400"/>
            <a:ext cx="1498320" cy="608760"/>
            <a:chOff x="826920" y="4424400"/>
            <a:chExt cx="1498320" cy="608760"/>
          </a:xfrm>
        </p:grpSpPr>
        <p:sp>
          <p:nvSpPr>
            <p:cNvPr id="150" name=""/>
            <p:cNvSpPr/>
            <p:nvPr/>
          </p:nvSpPr>
          <p:spPr>
            <a:xfrm>
              <a:off x="1503000" y="4424400"/>
              <a:ext cx="822240" cy="6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Siemens Sans"/>
                </a:rPr>
                <a:t>CHN HW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Siemens Sans"/>
                </a:rPr>
                <a:t>(TBD) (PPM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26920" y="4437000"/>
              <a:ext cx="477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11/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52600" y="1763640"/>
            <a:ext cx="109440" cy="371520"/>
            <a:chOff x="552600" y="1763640"/>
            <a:chExt cx="109440" cy="371520"/>
          </a:xfrm>
        </p:grpSpPr>
        <p:sp>
          <p:nvSpPr>
            <p:cNvPr id="153" name=""/>
            <p:cNvSpPr/>
            <p:nvPr/>
          </p:nvSpPr>
          <p:spPr>
            <a:xfrm>
              <a:off x="552600" y="1763640"/>
              <a:ext cx="109440" cy="371520"/>
            </a:xfrm>
            <a:custGeom>
              <a:avLst/>
              <a:gdLst>
                <a:gd name="textAreaLeft" fmla="*/ 5040 w 109440"/>
                <a:gd name="textAreaRight" fmla="*/ 104400 w 109440"/>
                <a:gd name="textAreaTop" fmla="*/ 5040 h 371520"/>
                <a:gd name="textAreaBottom" fmla="*/ 366480 h 371520"/>
              </a:gdLst>
              <a:ahLst/>
              <a:rect l="textAreaLeft" t="textAreaTop" r="textAreaRight" b="textAreaBottom"/>
              <a:pathLst>
                <a:path w="21600" h="73157">
                  <a:moveTo>
                    <a:pt x="3600" y="0"/>
                  </a:moveTo>
                  <a:arcTo wR="3600" hR="3600" stAng="16200000" swAng="-5400000"/>
                  <a:lnTo>
                    <a:pt x="0" y="69557"/>
                  </a:lnTo>
                  <a:arcTo wR="3600" hR="3600" stAng="10800000" swAng="-5400000"/>
                  <a:lnTo>
                    <a:pt x="18000" y="7315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52600" y="183780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52600" y="194940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52600" y="198648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52600" y="202356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52600" y="206100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52600" y="209808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4680" y="1986480"/>
              <a:ext cx="0" cy="111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7320" y="1986480"/>
              <a:ext cx="0" cy="111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79960" y="1986480"/>
              <a:ext cx="0" cy="111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1293840" y="2509920"/>
            <a:ext cx="109440" cy="371520"/>
            <a:chOff x="1293840" y="2509920"/>
            <a:chExt cx="109440" cy="371520"/>
          </a:xfrm>
        </p:grpSpPr>
        <p:sp>
          <p:nvSpPr>
            <p:cNvPr id="164" name=""/>
            <p:cNvSpPr/>
            <p:nvPr/>
          </p:nvSpPr>
          <p:spPr>
            <a:xfrm>
              <a:off x="1293840" y="2509920"/>
              <a:ext cx="109440" cy="371520"/>
            </a:xfrm>
            <a:custGeom>
              <a:avLst/>
              <a:gdLst>
                <a:gd name="textAreaLeft" fmla="*/ 5040 w 109440"/>
                <a:gd name="textAreaRight" fmla="*/ 104400 w 109440"/>
                <a:gd name="textAreaTop" fmla="*/ 5040 h 371520"/>
                <a:gd name="textAreaBottom" fmla="*/ 366480 h 371520"/>
              </a:gdLst>
              <a:ahLst/>
              <a:rect l="textAreaLeft" t="textAreaTop" r="textAreaRight" b="textAreaBottom"/>
              <a:pathLst>
                <a:path w="21600" h="73157">
                  <a:moveTo>
                    <a:pt x="3600" y="0"/>
                  </a:moveTo>
                  <a:arcTo wR="3600" hR="3600" stAng="16200000" swAng="-5400000"/>
                  <a:lnTo>
                    <a:pt x="0" y="69557"/>
                  </a:lnTo>
                  <a:arcTo wR="3600" hR="3600" stAng="10800000" swAng="-5400000"/>
                  <a:lnTo>
                    <a:pt x="18000" y="7315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93840" y="258408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93840" y="269568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93840" y="273276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293840" y="276984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293840" y="280728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293840" y="2844360"/>
              <a:ext cx="109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375920" y="2732760"/>
              <a:ext cx="0" cy="111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348560" y="2732760"/>
              <a:ext cx="0" cy="111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321200" y="2732760"/>
              <a:ext cx="0" cy="111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560520" y="5524560"/>
            <a:ext cx="107640" cy="371520"/>
            <a:chOff x="560520" y="5524560"/>
            <a:chExt cx="107640" cy="371520"/>
          </a:xfrm>
        </p:grpSpPr>
        <p:sp>
          <p:nvSpPr>
            <p:cNvPr id="175" name=""/>
            <p:cNvSpPr/>
            <p:nvPr/>
          </p:nvSpPr>
          <p:spPr>
            <a:xfrm>
              <a:off x="560520" y="5524560"/>
              <a:ext cx="107640" cy="371520"/>
            </a:xfrm>
            <a:custGeom>
              <a:avLst/>
              <a:gdLst>
                <a:gd name="textAreaLeft" fmla="*/ 5040 w 107640"/>
                <a:gd name="textAreaRight" fmla="*/ 102600 w 107640"/>
                <a:gd name="textAreaTop" fmla="*/ 5040 h 371520"/>
                <a:gd name="textAreaBottom" fmla="*/ 366480 h 371520"/>
              </a:gdLst>
              <a:ahLst/>
              <a:rect l="textAreaLeft" t="textAreaTop" r="textAreaRight" b="textAreaBottom"/>
              <a:pathLst>
                <a:path w="21600" h="74376">
                  <a:moveTo>
                    <a:pt x="3600" y="0"/>
                  </a:moveTo>
                  <a:arcTo wR="3600" hR="3600" stAng="16200000" swAng="-5400000"/>
                  <a:lnTo>
                    <a:pt x="0" y="70776"/>
                  </a:lnTo>
                  <a:arcTo wR="3600" hR="3600" stAng="10800000" swAng="-5400000"/>
                  <a:lnTo>
                    <a:pt x="18000" y="743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60520" y="5598720"/>
              <a:ext cx="1076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60520" y="5710320"/>
              <a:ext cx="1076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60520" y="5747400"/>
              <a:ext cx="1076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60520" y="5784480"/>
              <a:ext cx="1076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60520" y="5821920"/>
              <a:ext cx="1076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60520" y="5859000"/>
              <a:ext cx="1076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1160" y="5747400"/>
              <a:ext cx="0" cy="111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14160" y="5747400"/>
              <a:ext cx="0" cy="111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87520" y="5747400"/>
              <a:ext cx="0" cy="111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1220760" y="4962600"/>
            <a:ext cx="303120" cy="204840"/>
            <a:chOff x="1220760" y="4962600"/>
            <a:chExt cx="303120" cy="204840"/>
          </a:xfrm>
        </p:grpSpPr>
        <p:sp>
          <p:nvSpPr>
            <p:cNvPr id="186" name=""/>
            <p:cNvSpPr/>
            <p:nvPr/>
          </p:nvSpPr>
          <p:spPr>
            <a:xfrm>
              <a:off x="1220760" y="5067360"/>
              <a:ext cx="236520" cy="10008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dddddd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304640" y="5081760"/>
              <a:ext cx="1526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72960" y="510552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52440" y="513108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1266480" y="5081760"/>
              <a:ext cx="76320" cy="666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225440" y="515016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1301400" y="5083200"/>
              <a:ext cx="76320" cy="6696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1342800" y="5081760"/>
              <a:ext cx="76320" cy="666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287360" y="4962600"/>
              <a:ext cx="236520" cy="12384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dddddd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361880" y="499428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19040" y="503892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844920" y="2994120"/>
            <a:ext cx="1960200" cy="363240"/>
            <a:chOff x="844920" y="2994120"/>
            <a:chExt cx="1960200" cy="363240"/>
          </a:xfrm>
        </p:grpSpPr>
        <p:grpSp>
          <p:nvGrpSpPr>
            <p:cNvPr id="198" name=""/>
            <p:cNvGrpSpPr/>
            <p:nvPr/>
          </p:nvGrpSpPr>
          <p:grpSpPr>
            <a:xfrm>
              <a:off x="844920" y="2994120"/>
              <a:ext cx="1960200" cy="304560"/>
              <a:chOff x="844920" y="2994120"/>
              <a:chExt cx="1960200" cy="304560"/>
            </a:xfrm>
          </p:grpSpPr>
          <p:sp>
            <p:nvSpPr>
              <p:cNvPr id="199" name=""/>
              <p:cNvSpPr/>
              <p:nvPr/>
            </p:nvSpPr>
            <p:spPr>
              <a:xfrm>
                <a:off x="1517760" y="2994120"/>
                <a:ext cx="12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Siemens Sans"/>
                  </a:rPr>
                  <a:t>Electra MM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Siemens Sans"/>
                  </a:rPr>
                  <a:t>(TBD) (PPM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44920" y="3059280"/>
                <a:ext cx="3344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Siemens Sans"/>
                  </a:rPr>
                  <a:t>11/0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1217520" y="3008160"/>
              <a:ext cx="187560" cy="349200"/>
              <a:chOff x="1217520" y="3008160"/>
              <a:chExt cx="187560" cy="349200"/>
            </a:xfrm>
          </p:grpSpPr>
          <p:sp>
            <p:nvSpPr>
              <p:cNvPr id="202" name=""/>
              <p:cNvSpPr/>
              <p:nvPr/>
            </p:nvSpPr>
            <p:spPr>
              <a:xfrm>
                <a:off x="1292400" y="3008160"/>
                <a:ext cx="112680" cy="209520"/>
              </a:xfrm>
              <a:custGeom>
                <a:avLst/>
                <a:gdLst>
                  <a:gd name="textAreaLeft" fmla="*/ 5400 w 112680"/>
                  <a:gd name="textAreaRight" fmla="*/ 107280 w 112680"/>
                  <a:gd name="textAreaTop" fmla="*/ 5400 h 209520"/>
                  <a:gd name="textAreaBottom" fmla="*/ 204120 h 209520"/>
                </a:gdLst>
                <a:ahLst/>
                <a:rect l="textAreaLeft" t="textAreaTop" r="textAreaRight" b="textAreaBottom"/>
                <a:pathLst>
                  <a:path w="21600" h="40104">
                    <a:moveTo>
                      <a:pt x="3600" y="0"/>
                    </a:moveTo>
                    <a:arcTo wR="3600" hR="3600" stAng="16200000" swAng="-5400000"/>
                    <a:lnTo>
                      <a:pt x="0" y="36504"/>
                    </a:lnTo>
                    <a:arcTo wR="3600" hR="3600" stAng="10800000" swAng="-5400000"/>
                    <a:lnTo>
                      <a:pt x="18000" y="4010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217520" y="3216240"/>
                <a:ext cx="174600" cy="14112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292400" y="307800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292400" y="3182760"/>
                <a:ext cx="1126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279440" y="3235320"/>
                <a:ext cx="1126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255680" y="3270240"/>
                <a:ext cx="1144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239840" y="3305160"/>
                <a:ext cx="1144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1250640" y="3235320"/>
                <a:ext cx="5724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220760" y="3333600"/>
                <a:ext cx="1126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1278000" y="3236760"/>
                <a:ext cx="5544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1306080" y="3235320"/>
                <a:ext cx="57240" cy="950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3" name=""/>
          <p:cNvGrpSpPr/>
          <p:nvPr/>
        </p:nvGrpSpPr>
        <p:grpSpPr>
          <a:xfrm>
            <a:off x="539640" y="3425760"/>
            <a:ext cx="1436760" cy="936720"/>
            <a:chOff x="539640" y="3425760"/>
            <a:chExt cx="1436760" cy="936720"/>
          </a:xfrm>
        </p:grpSpPr>
        <p:sp>
          <p:nvSpPr>
            <p:cNvPr id="214" name=""/>
            <p:cNvSpPr/>
            <p:nvPr/>
          </p:nvSpPr>
          <p:spPr>
            <a:xfrm>
              <a:off x="539640" y="3425760"/>
              <a:ext cx="1436760" cy="936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614160" y="3969000"/>
              <a:ext cx="1352880" cy="139680"/>
              <a:chOff x="614160" y="3969000"/>
              <a:chExt cx="1352880" cy="139680"/>
            </a:xfrm>
          </p:grpSpPr>
          <p:sp>
            <p:nvSpPr>
              <p:cNvPr id="216" name=""/>
              <p:cNvSpPr/>
              <p:nvPr/>
            </p:nvSpPr>
            <p:spPr>
              <a:xfrm>
                <a:off x="614160" y="3969000"/>
                <a:ext cx="123840" cy="123840"/>
              </a:xfrm>
              <a:prstGeom prst="ellipse">
                <a:avLst/>
              </a:prstGeom>
              <a:solidFill>
                <a:srgbClr val="8c94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50240" y="3986640"/>
                <a:ext cx="1216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iemens Sans"/>
                  </a:rPr>
                  <a:t>NAM products (w/o UMA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579240" y="4132440"/>
              <a:ext cx="1139040" cy="193680"/>
              <a:chOff x="579240" y="4132440"/>
              <a:chExt cx="1139040" cy="193680"/>
            </a:xfrm>
          </p:grpSpPr>
          <p:sp>
            <p:nvSpPr>
              <p:cNvPr id="219" name=""/>
              <p:cNvSpPr/>
              <p:nvPr/>
            </p:nvSpPr>
            <p:spPr>
              <a:xfrm>
                <a:off x="579240" y="4132440"/>
                <a:ext cx="183960" cy="193680"/>
              </a:xfrm>
              <a:prstGeom prst="flowChartSor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77240" y="4172040"/>
                <a:ext cx="941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iemens Sans"/>
                  </a:rPr>
                  <a:t>Clam or slider (tbd.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614160" y="3797280"/>
              <a:ext cx="846000" cy="152640"/>
              <a:chOff x="614160" y="3797280"/>
              <a:chExt cx="846000" cy="152640"/>
            </a:xfrm>
          </p:grpSpPr>
          <p:sp>
            <p:nvSpPr>
              <p:cNvPr id="222" name=""/>
              <p:cNvSpPr/>
              <p:nvPr/>
            </p:nvSpPr>
            <p:spPr>
              <a:xfrm>
                <a:off x="614160" y="3805200"/>
                <a:ext cx="135000" cy="1238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84440" y="3797280"/>
                <a:ext cx="675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Siemens Sans"/>
                  </a:rPr>
                  <a:t>850 Varian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1269720" y="3467160"/>
              <a:ext cx="280440" cy="291960"/>
              <a:chOff x="1269720" y="3467160"/>
              <a:chExt cx="280440" cy="291960"/>
            </a:xfrm>
          </p:grpSpPr>
          <p:grpSp>
            <p:nvGrpSpPr>
              <p:cNvPr id="225" name=""/>
              <p:cNvGrpSpPr/>
              <p:nvPr/>
            </p:nvGrpSpPr>
            <p:grpSpPr>
              <a:xfrm>
                <a:off x="1269720" y="3467160"/>
                <a:ext cx="78120" cy="291960"/>
                <a:chOff x="1269720" y="3467160"/>
                <a:chExt cx="78120" cy="29196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1269720" y="3467160"/>
                  <a:ext cx="78120" cy="291960"/>
                </a:xfrm>
                <a:custGeom>
                  <a:avLst/>
                  <a:gdLst>
                    <a:gd name="textAreaLeft" fmla="*/ 3600 w 78120"/>
                    <a:gd name="textAreaRight" fmla="*/ 74520 w 78120"/>
                    <a:gd name="textAreaTop" fmla="*/ 3600 h 291960"/>
                    <a:gd name="textAreaBottom" fmla="*/ 288360 h 291960"/>
                  </a:gdLst>
                  <a:ahLst/>
                  <a:rect l="textAreaLeft" t="textAreaTop" r="textAreaRight" b="textAreaBottom"/>
                  <a:pathLst>
                    <a:path w="21600" h="80455">
                      <a:moveTo>
                        <a:pt x="3600" y="0"/>
                      </a:moveTo>
                      <a:arcTo wR="3600" hR="3600" stAng="16200000" swAng="-5400000"/>
                      <a:lnTo>
                        <a:pt x="0" y="76855"/>
                      </a:lnTo>
                      <a:arcTo wR="3600" hR="3600" stAng="10800000" swAng="-5400000"/>
                      <a:lnTo>
                        <a:pt x="18000" y="8045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333399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1269720" y="352548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1269720" y="361332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1269720" y="364212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1269720" y="367164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1269720" y="370080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269720" y="3729960"/>
                  <a:ext cx="78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1328400" y="364212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1308600" y="364212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1289160" y="364212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6" name=""/>
              <p:cNvSpPr/>
              <p:nvPr/>
            </p:nvSpPr>
            <p:spPr>
              <a:xfrm>
                <a:off x="1416960" y="3562200"/>
                <a:ext cx="133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iemens Sans"/>
                  </a:rPr>
                  <a:t>3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1560240" y="3467160"/>
              <a:ext cx="375840" cy="291960"/>
              <a:chOff x="1560240" y="3467160"/>
              <a:chExt cx="375840" cy="29196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1560240" y="3467160"/>
                <a:ext cx="77040" cy="291960"/>
                <a:chOff x="1560240" y="3467160"/>
                <a:chExt cx="77040" cy="29196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1560240" y="3467160"/>
                  <a:ext cx="77040" cy="291960"/>
                </a:xfrm>
                <a:custGeom>
                  <a:avLst/>
                  <a:gdLst>
                    <a:gd name="textAreaLeft" fmla="*/ 3600 w 77040"/>
                    <a:gd name="textAreaRight" fmla="*/ 73440 w 77040"/>
                    <a:gd name="textAreaTop" fmla="*/ 3600 h 291960"/>
                    <a:gd name="textAreaBottom" fmla="*/ 288360 h 291960"/>
                  </a:gdLst>
                  <a:ahLst/>
                  <a:rect l="textAreaLeft" t="textAreaTop" r="textAreaRight" b="textAreaBottom"/>
                  <a:pathLst>
                    <a:path w="21600" h="81578">
                      <a:moveTo>
                        <a:pt x="3600" y="0"/>
                      </a:moveTo>
                      <a:arcTo wR="3600" hR="3600" stAng="16200000" swAng="-5400000"/>
                      <a:lnTo>
                        <a:pt x="0" y="77978"/>
                      </a:lnTo>
                      <a:arcTo wR="3600" hR="3600" stAng="10800000" swAng="-5400000"/>
                      <a:lnTo>
                        <a:pt x="18000" y="81578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9933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1560240" y="352548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560240" y="361332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1560240" y="364212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1560240" y="367164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560240" y="370080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1560240" y="3729960"/>
                  <a:ext cx="770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1617840" y="364212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1598760" y="364212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579320" y="3642120"/>
                  <a:ext cx="0" cy="874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1691640" y="3562200"/>
                <a:ext cx="2444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iemens Sans"/>
                  </a:rPr>
                  <a:t>2,5 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587520" y="34830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 u="sng">
                  <a:solidFill>
                    <a:srgbClr val="000000"/>
                  </a:solidFill>
                  <a:uFillTx/>
                  <a:latin typeface="Siemens Sans"/>
                </a:rPr>
                <a:t>LEGE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614960" y="532764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25€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8160" y="5881680"/>
            <a:ext cx="19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90€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2632320" y="2387520"/>
            <a:ext cx="1959840" cy="426240"/>
            <a:chOff x="2632320" y="2387520"/>
            <a:chExt cx="1959840" cy="426240"/>
          </a:xfrm>
        </p:grpSpPr>
        <p:sp>
          <p:nvSpPr>
            <p:cNvPr id="254" name=""/>
            <p:cNvSpPr/>
            <p:nvPr/>
          </p:nvSpPr>
          <p:spPr>
            <a:xfrm>
              <a:off x="3305160" y="2387520"/>
              <a:ext cx="128700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Peaco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Electra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i="1" lang="de-DE" sz="800" spc="-1" strike="noStrike">
                  <a:solidFill>
                    <a:srgbClr val="000000"/>
                  </a:solidFill>
                  <a:latin typeface="Siemens Sans"/>
                </a:rPr>
                <a:t>High-End imaging (3-4 Mp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632320" y="251784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2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3021120" y="2421000"/>
            <a:ext cx="186840" cy="349200"/>
            <a:chOff x="3021120" y="2421000"/>
            <a:chExt cx="186840" cy="349200"/>
          </a:xfrm>
        </p:grpSpPr>
        <p:sp>
          <p:nvSpPr>
            <p:cNvPr id="257" name=""/>
            <p:cNvSpPr/>
            <p:nvPr/>
          </p:nvSpPr>
          <p:spPr>
            <a:xfrm>
              <a:off x="3095640" y="2421000"/>
              <a:ext cx="112320" cy="209520"/>
            </a:xfrm>
            <a:custGeom>
              <a:avLst/>
              <a:gdLst>
                <a:gd name="textAreaLeft" fmla="*/ 5400 w 112320"/>
                <a:gd name="textAreaRight" fmla="*/ 106920 w 112320"/>
                <a:gd name="textAreaTop" fmla="*/ 5400 h 209520"/>
                <a:gd name="textAreaBottom" fmla="*/ 204120 h 209520"/>
              </a:gdLst>
              <a:ahLst/>
              <a:rect l="textAreaLeft" t="textAreaTop" r="textAreaRight" b="textAreaBottom"/>
              <a:pathLst>
                <a:path w="21600" h="40233">
                  <a:moveTo>
                    <a:pt x="3600" y="0"/>
                  </a:moveTo>
                  <a:arcTo wR="3600" hR="3600" stAng="16200000" swAng="-5400000"/>
                  <a:lnTo>
                    <a:pt x="0" y="36633"/>
                  </a:lnTo>
                  <a:arcTo wR="3600" hR="3600" stAng="10800000" swAng="-5400000"/>
                  <a:lnTo>
                    <a:pt x="18000" y="4023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68d34"/>
            </a:soli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021120" y="2629080"/>
              <a:ext cx="174240" cy="14112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e68d34"/>
            </a:solidFill>
            <a:ln w="9360">
              <a:solidFill>
                <a:srgbClr val="dddddd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095640" y="2490840"/>
              <a:ext cx="1105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095640" y="2595600"/>
              <a:ext cx="1123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082680" y="2648160"/>
              <a:ext cx="1123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058920" y="2683080"/>
              <a:ext cx="1141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043080" y="2718000"/>
              <a:ext cx="1141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3054240" y="2648160"/>
              <a:ext cx="56880" cy="968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024000" y="2746440"/>
              <a:ext cx="1123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3080880" y="2649600"/>
              <a:ext cx="55080" cy="968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3109680" y="2648160"/>
              <a:ext cx="56880" cy="950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3057840" y="285264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00€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7451640" y="1484280"/>
            <a:ext cx="1627200" cy="551520"/>
            <a:chOff x="7451640" y="1484280"/>
            <a:chExt cx="1627200" cy="551520"/>
          </a:xfrm>
        </p:grpSpPr>
        <p:grpSp>
          <p:nvGrpSpPr>
            <p:cNvPr id="270" name=""/>
            <p:cNvGrpSpPr/>
            <p:nvPr/>
          </p:nvGrpSpPr>
          <p:grpSpPr>
            <a:xfrm>
              <a:off x="7451640" y="1484280"/>
              <a:ext cx="1627200" cy="551520"/>
              <a:chOff x="7451640" y="1484280"/>
              <a:chExt cx="1627200" cy="551520"/>
            </a:xfrm>
          </p:grpSpPr>
          <p:sp>
            <p:nvSpPr>
              <p:cNvPr id="271" name=""/>
              <p:cNvSpPr/>
              <p:nvPr/>
            </p:nvSpPr>
            <p:spPr>
              <a:xfrm>
                <a:off x="8744400" y="1714320"/>
                <a:ext cx="3344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Siemens Sans"/>
                  </a:rPr>
                  <a:t>09/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451640" y="1609560"/>
                <a:ext cx="1008000" cy="42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Siemens Sans"/>
                  </a:rPr>
                  <a:t>HAWK (TBD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Siemens Sans"/>
                  </a:rPr>
                  <a:t>(NEO II UMTS) 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i="1" lang="de-DE" sz="800" spc="-1" strike="noStrike">
                    <a:solidFill>
                      <a:srgbClr val="000000"/>
                    </a:solidFill>
                    <a:latin typeface="Siemens Sans"/>
                  </a:rPr>
                  <a:t>Ultimate messagin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502480" y="1484280"/>
                <a:ext cx="122400" cy="111240"/>
              </a:xfrm>
              <a:prstGeom prst="ellipse">
                <a:avLst/>
              </a:prstGeom>
              <a:solidFill>
                <a:srgbClr val="8c94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4" name=""/>
              <p:cNvGrpSpPr/>
              <p:nvPr/>
            </p:nvGrpSpPr>
            <p:grpSpPr>
              <a:xfrm>
                <a:off x="8402400" y="1623960"/>
                <a:ext cx="345960" cy="371520"/>
                <a:chOff x="8402400" y="1623960"/>
                <a:chExt cx="345960" cy="37152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8402400" y="1741680"/>
                  <a:ext cx="345960" cy="9684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6" name=""/>
                <p:cNvGrpSpPr/>
                <p:nvPr/>
              </p:nvGrpSpPr>
              <p:grpSpPr>
                <a:xfrm>
                  <a:off x="8507160" y="1623960"/>
                  <a:ext cx="109440" cy="371520"/>
                  <a:chOff x="8507160" y="1623960"/>
                  <a:chExt cx="109440" cy="37152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8507160" y="1623960"/>
                    <a:ext cx="109440" cy="371520"/>
                  </a:xfrm>
                  <a:custGeom>
                    <a:avLst/>
                    <a:gdLst>
                      <a:gd name="textAreaLeft" fmla="*/ 5040 w 109440"/>
                      <a:gd name="textAreaRight" fmla="*/ 104400 w 109440"/>
                      <a:gd name="textAreaTop" fmla="*/ 5040 h 371520"/>
                      <a:gd name="textAreaBottom" fmla="*/ 366480 h 371520"/>
                    </a:gdLst>
                    <a:ahLst/>
                    <a:rect l="textAreaLeft" t="textAreaTop" r="textAreaRight" b="textAreaBottom"/>
                    <a:pathLst>
                      <a:path w="21600" h="73157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69557"/>
                        </a:lnTo>
                        <a:arcTo wR="3600" hR="3600" stAng="10800000" swAng="-5400000"/>
                        <a:lnTo>
                          <a:pt x="18000" y="73157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333399"/>
                  </a:solidFill>
                  <a:ln w="9360">
                    <a:solidFill>
                      <a:srgbClr val="dddddd"/>
                    </a:solidFill>
                    <a:miter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8507160" y="1698120"/>
                    <a:ext cx="1094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8507160" y="1809720"/>
                    <a:ext cx="1094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8507160" y="1846800"/>
                    <a:ext cx="1094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8507160" y="1883880"/>
                    <a:ext cx="1094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8507160" y="1921320"/>
                    <a:ext cx="1094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8507160" y="1958400"/>
                    <a:ext cx="109440" cy="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-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8589240" y="1846800"/>
                    <a:ext cx="0" cy="11124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8561880" y="1846800"/>
                    <a:ext cx="0" cy="11124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8534520" y="1846800"/>
                    <a:ext cx="0" cy="111240"/>
                  </a:xfrm>
                  <a:prstGeom prst="line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87" name=""/>
            <p:cNvSpPr/>
            <p:nvPr/>
          </p:nvSpPr>
          <p:spPr>
            <a:xfrm>
              <a:off x="8687160" y="188748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3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4795920" y="2276640"/>
            <a:ext cx="2347920" cy="426240"/>
            <a:chOff x="4795920" y="2276640"/>
            <a:chExt cx="2347920" cy="426240"/>
          </a:xfrm>
        </p:grpSpPr>
        <p:sp>
          <p:nvSpPr>
            <p:cNvPr id="289" name=""/>
            <p:cNvSpPr/>
            <p:nvPr/>
          </p:nvSpPr>
          <p:spPr>
            <a:xfrm>
              <a:off x="6419880" y="2327400"/>
              <a:ext cx="223920" cy="216000"/>
            </a:xfrm>
            <a:prstGeom prst="flowChartSort">
              <a:avLst/>
            </a:prstGeom>
            <a:solidFill>
              <a:srgbClr val="33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795920" y="2276640"/>
              <a:ext cx="155556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Siemens Sans"/>
                </a:rPr>
                <a:t>W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en-GB" sz="800" spc="-1" strike="noStrike">
                  <a:solidFill>
                    <a:srgbClr val="000000"/>
                  </a:solidFill>
                  <a:latin typeface="Siemens Sans"/>
                </a:rPr>
                <a:t>UMTS Musi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665760" y="2340000"/>
              <a:ext cx="47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6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706080" y="25117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2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4727520" y="2730600"/>
            <a:ext cx="2428920" cy="551520"/>
            <a:chOff x="4727520" y="2730600"/>
            <a:chExt cx="2428920" cy="551520"/>
          </a:xfrm>
        </p:grpSpPr>
        <p:sp>
          <p:nvSpPr>
            <p:cNvPr id="294" name=""/>
            <p:cNvSpPr/>
            <p:nvPr/>
          </p:nvSpPr>
          <p:spPr>
            <a:xfrm>
              <a:off x="6432480" y="2855880"/>
              <a:ext cx="223920" cy="215640"/>
            </a:xfrm>
            <a:prstGeom prst="flowChartSort">
              <a:avLst/>
            </a:prstGeom>
            <a:solidFill>
              <a:srgbClr val="33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727520" y="2855880"/>
              <a:ext cx="163692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Siemens Sans"/>
                </a:rPr>
                <a:t>CUCKO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en-GB" sz="800" spc="-1" strike="noStrike">
                  <a:solidFill>
                    <a:srgbClr val="000000"/>
                  </a:solidFill>
                  <a:latin typeface="Siemens Sans"/>
                </a:rPr>
                <a:t>UMTS Busin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678720" y="2792160"/>
              <a:ext cx="477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6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80000" y="2730600"/>
              <a:ext cx="122400" cy="110880"/>
            </a:xfrm>
            <a:prstGeom prst="ellipse">
              <a:avLst/>
            </a:prstGeom>
            <a:solidFill>
              <a:srgbClr val="8c9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390000" y="313848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90 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2608200" y="5013360"/>
            <a:ext cx="2286000" cy="747360"/>
            <a:chOff x="2608200" y="5013360"/>
            <a:chExt cx="2286000" cy="747360"/>
          </a:xfrm>
        </p:grpSpPr>
        <p:sp>
          <p:nvSpPr>
            <p:cNvPr id="300" name=""/>
            <p:cNvSpPr/>
            <p:nvPr/>
          </p:nvSpPr>
          <p:spPr>
            <a:xfrm>
              <a:off x="4076640" y="5373720"/>
              <a:ext cx="519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298680" y="5091120"/>
              <a:ext cx="1595520" cy="66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Siemens Sans"/>
                </a:rPr>
                <a:t>Siski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Siemens Sans"/>
                </a:rPr>
                <a:t>(Leopard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Siemens Sans"/>
                </a:rPr>
                <a:t>=Adonis DTC (2nd ID China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en-GB" sz="800" spc="-1" strike="noStrike">
                  <a:solidFill>
                    <a:srgbClr val="000000"/>
                  </a:solidFill>
                  <a:latin typeface="Siemens Sans"/>
                </a:rPr>
                <a:t>Stylish clam with / without ca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608200" y="5211720"/>
              <a:ext cx="47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2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962440" y="5013360"/>
              <a:ext cx="129960" cy="111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119400" y="5013360"/>
              <a:ext cx="122400" cy="111240"/>
            </a:xfrm>
            <a:prstGeom prst="ellipse">
              <a:avLst/>
            </a:prstGeom>
            <a:solidFill>
              <a:srgbClr val="8c9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2890800" y="5164200"/>
              <a:ext cx="186840" cy="349200"/>
              <a:chOff x="2890800" y="5164200"/>
              <a:chExt cx="186840" cy="349200"/>
            </a:xfrm>
          </p:grpSpPr>
          <p:sp>
            <p:nvSpPr>
              <p:cNvPr id="306" name=""/>
              <p:cNvSpPr/>
              <p:nvPr/>
            </p:nvSpPr>
            <p:spPr>
              <a:xfrm>
                <a:off x="2965320" y="5164200"/>
                <a:ext cx="112320" cy="209520"/>
              </a:xfrm>
              <a:custGeom>
                <a:avLst/>
                <a:gdLst>
                  <a:gd name="textAreaLeft" fmla="*/ 5400 w 112320"/>
                  <a:gd name="textAreaRight" fmla="*/ 106920 w 112320"/>
                  <a:gd name="textAreaTop" fmla="*/ 5400 h 209520"/>
                  <a:gd name="textAreaBottom" fmla="*/ 204120 h 209520"/>
                </a:gdLst>
                <a:ahLst/>
                <a:rect l="textAreaLeft" t="textAreaTop" r="textAreaRight" b="textAreaBottom"/>
                <a:pathLst>
                  <a:path w="21600" h="40233">
                    <a:moveTo>
                      <a:pt x="3600" y="0"/>
                    </a:moveTo>
                    <a:arcTo wR="3600" hR="3600" stAng="16200000" swAng="-5400000"/>
                    <a:lnTo>
                      <a:pt x="0" y="36633"/>
                    </a:lnTo>
                    <a:arcTo wR="3600" hR="3600" stAng="10800000" swAng="-5400000"/>
                    <a:lnTo>
                      <a:pt x="18000" y="4023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890800" y="5372280"/>
                <a:ext cx="174240" cy="14112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965320" y="5234040"/>
                <a:ext cx="1105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965320" y="533880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952360" y="539136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928600" y="542628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912760" y="546120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>
                <a:off x="2923920" y="5391360"/>
                <a:ext cx="568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893680" y="548964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H="1">
                <a:off x="2950560" y="5392800"/>
                <a:ext cx="550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2979360" y="5391360"/>
                <a:ext cx="56880" cy="950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059280" y="5164200"/>
              <a:ext cx="186840" cy="349200"/>
              <a:chOff x="3059280" y="5164200"/>
              <a:chExt cx="186840" cy="349200"/>
            </a:xfrm>
          </p:grpSpPr>
          <p:sp>
            <p:nvSpPr>
              <p:cNvPr id="318" name=""/>
              <p:cNvSpPr/>
              <p:nvPr/>
            </p:nvSpPr>
            <p:spPr>
              <a:xfrm>
                <a:off x="3133800" y="5164200"/>
                <a:ext cx="112320" cy="209520"/>
              </a:xfrm>
              <a:custGeom>
                <a:avLst/>
                <a:gdLst>
                  <a:gd name="textAreaLeft" fmla="*/ 5400 w 112320"/>
                  <a:gd name="textAreaRight" fmla="*/ 106920 w 112320"/>
                  <a:gd name="textAreaTop" fmla="*/ 5400 h 209520"/>
                  <a:gd name="textAreaBottom" fmla="*/ 204120 h 209520"/>
                </a:gdLst>
                <a:ahLst/>
                <a:rect l="textAreaLeft" t="textAreaTop" r="textAreaRight" b="textAreaBottom"/>
                <a:pathLst>
                  <a:path w="21600" h="40233">
                    <a:moveTo>
                      <a:pt x="3600" y="0"/>
                    </a:moveTo>
                    <a:arcTo wR="3600" hR="3600" stAng="16200000" swAng="-5400000"/>
                    <a:lnTo>
                      <a:pt x="0" y="36633"/>
                    </a:lnTo>
                    <a:arcTo wR="3600" hR="3600" stAng="10800000" swAng="-5400000"/>
                    <a:lnTo>
                      <a:pt x="18000" y="4023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059280" y="5372280"/>
                <a:ext cx="174240" cy="14112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133800" y="5234040"/>
                <a:ext cx="1105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133800" y="533880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120840" y="539136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097080" y="542628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081240" y="546120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>
                <a:off x="3092400" y="5391360"/>
                <a:ext cx="568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062160" y="548964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>
                <a:off x="3119040" y="5392800"/>
                <a:ext cx="550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>
                <a:off x="3147840" y="5391360"/>
                <a:ext cx="56880" cy="950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>
              <a:off x="2927880" y="558648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9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5037480" y="4913280"/>
            <a:ext cx="1510920" cy="660600"/>
            <a:chOff x="5037480" y="4913280"/>
            <a:chExt cx="1510920" cy="660600"/>
          </a:xfrm>
        </p:grpSpPr>
        <p:sp>
          <p:nvSpPr>
            <p:cNvPr id="331" name=""/>
            <p:cNvSpPr/>
            <p:nvPr/>
          </p:nvSpPr>
          <p:spPr>
            <a:xfrm>
              <a:off x="5640480" y="5025960"/>
              <a:ext cx="9079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Brambl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Siemens Sans"/>
                </a:rPr>
                <a:t>(Hermes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Siemens Sans"/>
                </a:rPr>
                <a:t>Basic imag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037480" y="508644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5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5438880" y="4970520"/>
              <a:ext cx="109440" cy="371520"/>
              <a:chOff x="5438880" y="4970520"/>
              <a:chExt cx="109440" cy="371520"/>
            </a:xfrm>
          </p:grpSpPr>
          <p:sp>
            <p:nvSpPr>
              <p:cNvPr id="334" name=""/>
              <p:cNvSpPr/>
              <p:nvPr/>
            </p:nvSpPr>
            <p:spPr>
              <a:xfrm>
                <a:off x="5438880" y="4970520"/>
                <a:ext cx="109440" cy="371520"/>
              </a:xfrm>
              <a:custGeom>
                <a:avLst/>
                <a:gdLst>
                  <a:gd name="textAreaLeft" fmla="*/ 5040 w 109440"/>
                  <a:gd name="textAreaRight" fmla="*/ 104400 w 109440"/>
                  <a:gd name="textAreaTop" fmla="*/ 5040 h 371520"/>
                  <a:gd name="textAreaBottom" fmla="*/ 366480 h 371520"/>
                </a:gdLst>
                <a:ahLst/>
                <a:rect l="textAreaLeft" t="textAreaTop" r="textAreaRight" b="textAreaBottom"/>
                <a:pathLst>
                  <a:path w="21600" h="73157">
                    <a:moveTo>
                      <a:pt x="3600" y="0"/>
                    </a:moveTo>
                    <a:arcTo wR="3600" hR="3600" stAng="16200000" swAng="-5400000"/>
                    <a:lnTo>
                      <a:pt x="0" y="69557"/>
                    </a:lnTo>
                    <a:arcTo wR="3600" hR="3600" stAng="10800000" swAng="-5400000"/>
                    <a:lnTo>
                      <a:pt x="18000" y="7315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438880" y="504468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438880" y="515628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438880" y="519336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438880" y="523044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438880" y="526788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438880" y="530496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520960" y="51933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493600" y="51933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466240" y="51933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4" name=""/>
            <p:cNvSpPr/>
            <p:nvPr/>
          </p:nvSpPr>
          <p:spPr>
            <a:xfrm>
              <a:off x="5810400" y="4913280"/>
              <a:ext cx="129960" cy="111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364360" y="536580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1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5037480" y="5513400"/>
            <a:ext cx="1733040" cy="585360"/>
            <a:chOff x="5037480" y="5513400"/>
            <a:chExt cx="1733040" cy="585360"/>
          </a:xfrm>
        </p:grpSpPr>
        <p:sp>
          <p:nvSpPr>
            <p:cNvPr id="347" name=""/>
            <p:cNvSpPr/>
            <p:nvPr/>
          </p:nvSpPr>
          <p:spPr>
            <a:xfrm>
              <a:off x="5037480" y="577548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5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8" name=""/>
            <p:cNvGrpSpPr/>
            <p:nvPr/>
          </p:nvGrpSpPr>
          <p:grpSpPr>
            <a:xfrm>
              <a:off x="5424480" y="5668920"/>
              <a:ext cx="111240" cy="371520"/>
              <a:chOff x="5424480" y="5668920"/>
              <a:chExt cx="111240" cy="371520"/>
            </a:xfrm>
          </p:grpSpPr>
          <p:sp>
            <p:nvSpPr>
              <p:cNvPr id="349" name=""/>
              <p:cNvSpPr/>
              <p:nvPr/>
            </p:nvSpPr>
            <p:spPr>
              <a:xfrm>
                <a:off x="5424480" y="5668920"/>
                <a:ext cx="111240" cy="371520"/>
              </a:xfrm>
              <a:custGeom>
                <a:avLst/>
                <a:gdLst>
                  <a:gd name="textAreaLeft" fmla="*/ 5400 w 111240"/>
                  <a:gd name="textAreaRight" fmla="*/ 105840 w 111240"/>
                  <a:gd name="textAreaTop" fmla="*/ 5400 h 371520"/>
                  <a:gd name="textAreaBottom" fmla="*/ 366120 h 371520"/>
                </a:gdLst>
                <a:ahLst/>
                <a:rect l="textAreaLeft" t="textAreaTop" r="textAreaRight" b="textAreaBottom"/>
                <a:pathLst>
                  <a:path w="21600" h="71977">
                    <a:moveTo>
                      <a:pt x="3600" y="0"/>
                    </a:moveTo>
                    <a:arcTo wR="3600" hR="3600" stAng="16200000" swAng="-5400000"/>
                    <a:lnTo>
                      <a:pt x="0" y="68377"/>
                    </a:lnTo>
                    <a:arcTo wR="3600" hR="3600" stAng="10800000" swAng="-5400000"/>
                    <a:lnTo>
                      <a:pt x="18000" y="7197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424480" y="574308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424480" y="585468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424480" y="589176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424480" y="592884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424480" y="596628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424480" y="600336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508000" y="58917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479920" y="58917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452200" y="58917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9" name=""/>
            <p:cNvSpPr/>
            <p:nvPr/>
          </p:nvSpPr>
          <p:spPr>
            <a:xfrm>
              <a:off x="5423040" y="5513400"/>
              <a:ext cx="129960" cy="111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627520" y="5624640"/>
              <a:ext cx="1143000" cy="4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Dodo</a:t>
              </a:r>
              <a:r>
                <a:rPr b="1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Dorado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Basic b/w, Emerg. Mk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112360" y="596124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8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2264040" y="5522760"/>
            <a:ext cx="1882440" cy="708120"/>
            <a:chOff x="2264040" y="5522760"/>
            <a:chExt cx="1882440" cy="708120"/>
          </a:xfrm>
        </p:grpSpPr>
        <p:grpSp>
          <p:nvGrpSpPr>
            <p:cNvPr id="363" name=""/>
            <p:cNvGrpSpPr/>
            <p:nvPr/>
          </p:nvGrpSpPr>
          <p:grpSpPr>
            <a:xfrm>
              <a:off x="2639880" y="5671800"/>
              <a:ext cx="111240" cy="371520"/>
              <a:chOff x="2639880" y="5671800"/>
              <a:chExt cx="111240" cy="371520"/>
            </a:xfrm>
          </p:grpSpPr>
          <p:sp>
            <p:nvSpPr>
              <p:cNvPr id="364" name=""/>
              <p:cNvSpPr/>
              <p:nvPr/>
            </p:nvSpPr>
            <p:spPr>
              <a:xfrm>
                <a:off x="2639880" y="5671800"/>
                <a:ext cx="111240" cy="371520"/>
              </a:xfrm>
              <a:custGeom>
                <a:avLst/>
                <a:gdLst>
                  <a:gd name="textAreaLeft" fmla="*/ 5400 w 111240"/>
                  <a:gd name="textAreaRight" fmla="*/ 105840 w 111240"/>
                  <a:gd name="textAreaTop" fmla="*/ 5400 h 371520"/>
                  <a:gd name="textAreaBottom" fmla="*/ 366120 h 371520"/>
                </a:gdLst>
                <a:ahLst/>
                <a:rect l="textAreaLeft" t="textAreaTop" r="textAreaRight" b="textAreaBottom"/>
                <a:pathLst>
                  <a:path w="21600" h="71977">
                    <a:moveTo>
                      <a:pt x="3600" y="0"/>
                    </a:moveTo>
                    <a:arcTo wR="3600" hR="3600" stAng="16200000" swAng="-5400000"/>
                    <a:lnTo>
                      <a:pt x="0" y="68377"/>
                    </a:lnTo>
                    <a:arcTo wR="3600" hR="3600" stAng="10800000" swAng="-5400000"/>
                    <a:lnTo>
                      <a:pt x="18000" y="7197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639880" y="574596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639880" y="585756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639880" y="589464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639880" y="593172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639880" y="596916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639880" y="600624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723400" y="589464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695320" y="589464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667600" y="589464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4" name=""/>
            <p:cNvSpPr/>
            <p:nvPr/>
          </p:nvSpPr>
          <p:spPr>
            <a:xfrm>
              <a:off x="2865240" y="5682960"/>
              <a:ext cx="12812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Fin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Libra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Entry color/ MMS w/o ca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264040" y="579240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1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628720" y="5522760"/>
              <a:ext cx="130320" cy="1108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364480" y="598788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5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7101000" y="4646520"/>
            <a:ext cx="1771560" cy="654840"/>
            <a:chOff x="7101000" y="4646520"/>
            <a:chExt cx="1771560" cy="654840"/>
          </a:xfrm>
        </p:grpSpPr>
        <p:sp>
          <p:nvSpPr>
            <p:cNvPr id="379" name=""/>
            <p:cNvSpPr/>
            <p:nvPr/>
          </p:nvSpPr>
          <p:spPr>
            <a:xfrm>
              <a:off x="7101000" y="4646520"/>
              <a:ext cx="118116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Parrot </a:t>
              </a:r>
              <a:r>
                <a:rPr b="1" lang="de-DE" sz="1200" spc="-1" strike="noStrike" u="sng">
                  <a:solidFill>
                    <a:srgbClr val="000000"/>
                  </a:solidFill>
                  <a:uFillTx/>
                  <a:latin typeface="Siemens Sans"/>
                </a:rPr>
                <a:t>(PPM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Mars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Convenience/ Reliabil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538120" y="472752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9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1" name=""/>
            <p:cNvGrpSpPr/>
            <p:nvPr/>
          </p:nvGrpSpPr>
          <p:grpSpPr>
            <a:xfrm>
              <a:off x="8375760" y="4657680"/>
              <a:ext cx="108000" cy="371160"/>
              <a:chOff x="8375760" y="4657680"/>
              <a:chExt cx="108000" cy="371160"/>
            </a:xfrm>
          </p:grpSpPr>
          <p:sp>
            <p:nvSpPr>
              <p:cNvPr id="382" name=""/>
              <p:cNvSpPr/>
              <p:nvPr/>
            </p:nvSpPr>
            <p:spPr>
              <a:xfrm>
                <a:off x="8375760" y="4657680"/>
                <a:ext cx="108000" cy="371160"/>
              </a:xfrm>
              <a:custGeom>
                <a:avLst/>
                <a:gdLst>
                  <a:gd name="textAreaLeft" fmla="*/ 5040 w 108000"/>
                  <a:gd name="textAreaRight" fmla="*/ 102960 w 108000"/>
                  <a:gd name="textAreaTop" fmla="*/ 5040 h 371160"/>
                  <a:gd name="textAreaBottom" fmla="*/ 366120 h 371160"/>
                </a:gdLst>
                <a:ahLst/>
                <a:rect l="textAreaLeft" t="textAreaTop" r="textAreaRight" b="textAreaBottom"/>
                <a:pathLst>
                  <a:path w="21600" h="74057">
                    <a:moveTo>
                      <a:pt x="3600" y="0"/>
                    </a:moveTo>
                    <a:arcTo wR="3600" hR="3600" stAng="16200000" swAng="-5400000"/>
                    <a:lnTo>
                      <a:pt x="0" y="70457"/>
                    </a:lnTo>
                    <a:arcTo wR="3600" hR="3600" stAng="10800000" swAng="-5400000"/>
                    <a:lnTo>
                      <a:pt x="18000" y="7405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8375760" y="473184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8375760" y="484344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8375760" y="488016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8375760" y="491760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8375760" y="495468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8375760" y="4991760"/>
                <a:ext cx="108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8456760" y="48801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8429760" y="48801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8402760" y="488016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2" name=""/>
            <p:cNvSpPr/>
            <p:nvPr/>
          </p:nvSpPr>
          <p:spPr>
            <a:xfrm>
              <a:off x="7938000" y="516384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3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7423200" y="3645000"/>
            <a:ext cx="1396800" cy="516960"/>
            <a:chOff x="7423200" y="3645000"/>
            <a:chExt cx="1396800" cy="516960"/>
          </a:xfrm>
        </p:grpSpPr>
        <p:grpSp>
          <p:nvGrpSpPr>
            <p:cNvPr id="394" name=""/>
            <p:cNvGrpSpPr/>
            <p:nvPr/>
          </p:nvGrpSpPr>
          <p:grpSpPr>
            <a:xfrm>
              <a:off x="7683480" y="3697200"/>
              <a:ext cx="1136520" cy="464760"/>
              <a:chOff x="7683480" y="3697200"/>
              <a:chExt cx="1136520" cy="464760"/>
            </a:xfrm>
          </p:grpSpPr>
          <p:grpSp>
            <p:nvGrpSpPr>
              <p:cNvPr id="395" name=""/>
              <p:cNvGrpSpPr/>
              <p:nvPr/>
            </p:nvGrpSpPr>
            <p:grpSpPr>
              <a:xfrm>
                <a:off x="7683480" y="3787200"/>
                <a:ext cx="186840" cy="349200"/>
                <a:chOff x="7683480" y="3787200"/>
                <a:chExt cx="186840" cy="34920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7758000" y="3787200"/>
                  <a:ext cx="112320" cy="209520"/>
                </a:xfrm>
                <a:custGeom>
                  <a:avLst/>
                  <a:gdLst>
                    <a:gd name="textAreaLeft" fmla="*/ 5400 w 112320"/>
                    <a:gd name="textAreaRight" fmla="*/ 106920 w 112320"/>
                    <a:gd name="textAreaTop" fmla="*/ 5400 h 209520"/>
                    <a:gd name="textAreaBottom" fmla="*/ 204120 h 209520"/>
                  </a:gdLst>
                  <a:ahLst/>
                  <a:rect l="textAreaLeft" t="textAreaTop" r="textAreaRight" b="textAreaBottom"/>
                  <a:pathLst>
                    <a:path w="21600" h="40233">
                      <a:moveTo>
                        <a:pt x="3600" y="0"/>
                      </a:moveTo>
                      <a:arcTo wR="3600" hR="3600" stAng="16200000" swAng="-5400000"/>
                      <a:lnTo>
                        <a:pt x="0" y="36633"/>
                      </a:lnTo>
                      <a:arcTo wR="3600" hR="3600" stAng="10800000" swAng="-5400000"/>
                      <a:lnTo>
                        <a:pt x="18000" y="40233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7683480" y="3994920"/>
                  <a:ext cx="174240" cy="141480"/>
                </a:xfrm>
                <a:custGeom>
                  <a:avLst/>
                  <a:gdLst/>
                  <a:ahLst/>
                  <a:rect l="l" t="t" r="r" b="b"/>
                  <a:pathLst>
                    <a:path w="297" h="195">
                      <a:moveTo>
                        <a:pt x="126" y="3"/>
                      </a:moveTo>
                      <a:lnTo>
                        <a:pt x="294" y="0"/>
                      </a:lnTo>
                      <a:lnTo>
                        <a:pt x="297" y="27"/>
                      </a:lnTo>
                      <a:lnTo>
                        <a:pt x="174" y="195"/>
                      </a:lnTo>
                      <a:lnTo>
                        <a:pt x="6" y="192"/>
                      </a:lnTo>
                      <a:lnTo>
                        <a:pt x="0" y="174"/>
                      </a:lnTo>
                      <a:lnTo>
                        <a:pt x="126" y="3"/>
                      </a:lnTo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round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7758000" y="385704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7758000" y="396180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7745040" y="401400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7721280" y="4048920"/>
                  <a:ext cx="114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7705440" y="4083840"/>
                  <a:ext cx="11376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flipH="1">
                  <a:off x="7716600" y="4014000"/>
                  <a:ext cx="568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7686360" y="411264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 flipH="1">
                  <a:off x="7743240" y="4015800"/>
                  <a:ext cx="550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flipH="1">
                  <a:off x="7773480" y="4014000"/>
                  <a:ext cx="550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7" name=""/>
              <p:cNvSpPr/>
              <p:nvPr/>
            </p:nvSpPr>
            <p:spPr>
              <a:xfrm>
                <a:off x="7986960" y="3697200"/>
                <a:ext cx="3344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Siemens Sans"/>
                  </a:rPr>
                  <a:t>09/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7929360" y="3857400"/>
                <a:ext cx="8906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Siemens Sans"/>
                  </a:rPr>
                  <a:t>Swal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0" lang="de-DE" sz="800" spc="-1" strike="noStrike">
                    <a:solidFill>
                      <a:srgbClr val="000000"/>
                    </a:solidFill>
                    <a:latin typeface="Siemens Sans"/>
                  </a:rPr>
                  <a:t>(Minos III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9" name=""/>
            <p:cNvSpPr/>
            <p:nvPr/>
          </p:nvSpPr>
          <p:spPr>
            <a:xfrm>
              <a:off x="7746840" y="3645000"/>
              <a:ext cx="130320" cy="1108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423200" y="390816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5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7866000" y="2585880"/>
            <a:ext cx="1098360" cy="501120"/>
            <a:chOff x="7866000" y="2585880"/>
            <a:chExt cx="1098360" cy="501120"/>
          </a:xfrm>
        </p:grpSpPr>
        <p:sp>
          <p:nvSpPr>
            <p:cNvPr id="412" name=""/>
            <p:cNvSpPr/>
            <p:nvPr/>
          </p:nvSpPr>
          <p:spPr>
            <a:xfrm>
              <a:off x="8629920" y="267156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9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866000" y="2595600"/>
              <a:ext cx="484200" cy="2743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Siemens Sans"/>
                </a:rPr>
                <a:t>Orion II (TBD/</a:t>
              </a: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Siemens Sans"/>
                </a:rPr>
                <a:t>PPM</a:t>
              </a:r>
              <a:r>
                <a:rPr b="1" lang="en-US" sz="1200" spc="-1" strike="noStrike">
                  <a:solidFill>
                    <a:srgbClr val="000000"/>
                  </a:solidFill>
                  <a:latin typeface="Siemens Sans"/>
                </a:rPr>
                <a:t>)</a:t>
              </a:r>
              <a:br>
                <a:rPr sz="1200"/>
              </a:b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Business/ Enterpris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MS 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8291520" y="2585880"/>
              <a:ext cx="303120" cy="204840"/>
              <a:chOff x="8291520" y="2585880"/>
              <a:chExt cx="303120" cy="204840"/>
            </a:xfrm>
          </p:grpSpPr>
          <p:sp>
            <p:nvSpPr>
              <p:cNvPr id="415" name=""/>
              <p:cNvSpPr/>
              <p:nvPr/>
            </p:nvSpPr>
            <p:spPr>
              <a:xfrm>
                <a:off x="8291520" y="2690640"/>
                <a:ext cx="236520" cy="1000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8375400" y="2705040"/>
                <a:ext cx="152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8343720" y="27288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8323200" y="275436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>
                <a:off x="8337240" y="270504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8296200" y="277344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H="1">
                <a:off x="8372160" y="2706480"/>
                <a:ext cx="76320" cy="6696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>
                <a:off x="8413560" y="270504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8358120" y="2585880"/>
                <a:ext cx="236520" cy="12384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8432640" y="261756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8389800" y="26622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7998120" y="294948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85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7444080" y="2103480"/>
            <a:ext cx="1560240" cy="401760"/>
            <a:chOff x="7444080" y="2103480"/>
            <a:chExt cx="1560240" cy="401760"/>
          </a:xfrm>
        </p:grpSpPr>
        <p:sp>
          <p:nvSpPr>
            <p:cNvPr id="428" name=""/>
            <p:cNvSpPr/>
            <p:nvPr/>
          </p:nvSpPr>
          <p:spPr>
            <a:xfrm>
              <a:off x="7740720" y="2165400"/>
              <a:ext cx="1263600" cy="2854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Siemens Sans"/>
                </a:rPr>
                <a:t>Hummingbi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Siemens Sans"/>
                </a:rPr>
                <a:t>(Hydra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High-end sty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444080" y="235260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8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7507440" y="2103480"/>
              <a:ext cx="303120" cy="204840"/>
              <a:chOff x="7507440" y="2103480"/>
              <a:chExt cx="303120" cy="204840"/>
            </a:xfrm>
          </p:grpSpPr>
          <p:sp>
            <p:nvSpPr>
              <p:cNvPr id="431" name=""/>
              <p:cNvSpPr/>
              <p:nvPr/>
            </p:nvSpPr>
            <p:spPr>
              <a:xfrm>
                <a:off x="7507440" y="2208240"/>
                <a:ext cx="236520" cy="1000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591320" y="2222640"/>
                <a:ext cx="152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559640" y="22464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539120" y="227196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H="1">
                <a:off x="7553160" y="222264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512120" y="229104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H="1">
                <a:off x="7588080" y="2224080"/>
                <a:ext cx="76320" cy="6696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H="1">
                <a:off x="7629480" y="222264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574040" y="2103480"/>
                <a:ext cx="236520" cy="12384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48560" y="213516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7605720" y="21798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2" name=""/>
            <p:cNvSpPr/>
            <p:nvPr/>
          </p:nvSpPr>
          <p:spPr>
            <a:xfrm>
              <a:off x="7845840" y="22543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8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2624040" y="3776760"/>
            <a:ext cx="1351080" cy="700200"/>
            <a:chOff x="2624040" y="3776760"/>
            <a:chExt cx="1351080" cy="700200"/>
          </a:xfrm>
        </p:grpSpPr>
        <p:grpSp>
          <p:nvGrpSpPr>
            <p:cNvPr id="444" name=""/>
            <p:cNvGrpSpPr/>
            <p:nvPr/>
          </p:nvGrpSpPr>
          <p:grpSpPr>
            <a:xfrm>
              <a:off x="2624040" y="3776760"/>
              <a:ext cx="1351080" cy="700200"/>
              <a:chOff x="2624040" y="3776760"/>
              <a:chExt cx="1351080" cy="700200"/>
            </a:xfrm>
          </p:grpSpPr>
          <p:grpSp>
            <p:nvGrpSpPr>
              <p:cNvPr id="445" name=""/>
              <p:cNvGrpSpPr/>
              <p:nvPr/>
            </p:nvGrpSpPr>
            <p:grpSpPr>
              <a:xfrm>
                <a:off x="3030480" y="3802320"/>
                <a:ext cx="109440" cy="371520"/>
                <a:chOff x="3030480" y="3802320"/>
                <a:chExt cx="109440" cy="37152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3030480" y="3802320"/>
                  <a:ext cx="109440" cy="371520"/>
                </a:xfrm>
                <a:custGeom>
                  <a:avLst/>
                  <a:gdLst>
                    <a:gd name="textAreaLeft" fmla="*/ 5040 w 109440"/>
                    <a:gd name="textAreaRight" fmla="*/ 104400 w 109440"/>
                    <a:gd name="textAreaTop" fmla="*/ 5040 h 371520"/>
                    <a:gd name="textAreaBottom" fmla="*/ 366480 h 371520"/>
                  </a:gdLst>
                  <a:ahLst/>
                  <a:rect l="textAreaLeft" t="textAreaTop" r="textAreaRight" b="textAreaBottom"/>
                  <a:pathLst>
                    <a:path w="21600" h="73157">
                      <a:moveTo>
                        <a:pt x="3600" y="0"/>
                      </a:moveTo>
                      <a:arcTo wR="3600" hR="3600" stAng="16200000" swAng="-5400000"/>
                      <a:lnTo>
                        <a:pt x="0" y="69557"/>
                      </a:lnTo>
                      <a:arcTo wR="3600" hR="3600" stAng="10800000" swAng="-5400000"/>
                      <a:lnTo>
                        <a:pt x="18000" y="7315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9933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3030480" y="387720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3030480" y="398808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3030480" y="402480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3030480" y="406296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3030480" y="409932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3030480" y="4137480"/>
                  <a:ext cx="10944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3112920" y="4024800"/>
                  <a:ext cx="0" cy="1126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3085920" y="4024800"/>
                  <a:ext cx="0" cy="1126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3057480" y="4024800"/>
                  <a:ext cx="0" cy="11268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" name=""/>
              <p:cNvGrpSpPr/>
              <p:nvPr/>
            </p:nvGrpSpPr>
            <p:grpSpPr>
              <a:xfrm>
                <a:off x="2624040" y="3776760"/>
                <a:ext cx="1351080" cy="700200"/>
                <a:chOff x="2624040" y="3776760"/>
                <a:chExt cx="1351080" cy="70020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3203640" y="3776760"/>
                  <a:ext cx="771480" cy="70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Siemens Sans"/>
                    </a:rPr>
                    <a:t>Polari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i="1" lang="de-DE" sz="800" spc="-1" strike="noStrike">
                      <a:solidFill>
                        <a:srgbClr val="000000"/>
                      </a:solidFill>
                      <a:latin typeface="Siemens Sans"/>
                    </a:rPr>
                    <a:t>High-value, slim convenienc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1" i="1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2624040" y="3895920"/>
                  <a:ext cx="77148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84160"/>
                      <a:tab algn="l" pos="1768320"/>
                      <a:tab algn="l" pos="2652840"/>
                      <a:tab algn="l" pos="3537000"/>
                      <a:tab algn="l" pos="4421160"/>
                      <a:tab algn="l" pos="5305320"/>
                      <a:tab algn="l" pos="6189840"/>
                      <a:tab algn="l" pos="7074000"/>
                      <a:tab algn="l" pos="7958160"/>
                      <a:tab algn="l" pos="8842320"/>
                      <a:tab algn="l" pos="9726480"/>
                      <a:tab algn="l" pos="10611000"/>
                    </a:tabLst>
                  </a:pPr>
                  <a:r>
                    <a:rPr b="0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02/06</a:t>
                  </a:r>
                  <a:r>
                    <a:rPr b="1" lang="de-DE" sz="1000" spc="-1" strike="noStrike">
                      <a:solidFill>
                        <a:srgbClr val="000000"/>
                      </a:solidFill>
                      <a:latin typeface="Siemens Sans"/>
                    </a:rPr>
                    <a:t> 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59" name=""/>
            <p:cNvSpPr/>
            <p:nvPr/>
          </p:nvSpPr>
          <p:spPr>
            <a:xfrm>
              <a:off x="2985480" y="4229280"/>
              <a:ext cx="518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50€ (tbc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1796040" y="955800"/>
            <a:ext cx="540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Siemens Sans"/>
              </a:rPr>
              <a:t>WORK IN PROGRESS – Budget &amp; resource finalization on-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3843360" y="3149640"/>
            <a:ext cx="2124000" cy="604080"/>
            <a:chOff x="3843360" y="3149640"/>
            <a:chExt cx="2124000" cy="604080"/>
          </a:xfrm>
        </p:grpSpPr>
        <p:sp>
          <p:nvSpPr>
            <p:cNvPr id="462" name=""/>
            <p:cNvSpPr/>
            <p:nvPr/>
          </p:nvSpPr>
          <p:spPr>
            <a:xfrm>
              <a:off x="5548320" y="3327480"/>
              <a:ext cx="223920" cy="216000"/>
            </a:xfrm>
            <a:prstGeom prst="flowChartSort">
              <a:avLst/>
            </a:prstGeom>
            <a:solidFill>
              <a:srgbClr val="33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843360" y="3327480"/>
              <a:ext cx="163692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Siemens Sans"/>
                </a:rPr>
                <a:t>ROBIN (TB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en-GB" sz="800" spc="-1" strike="noStrike">
                  <a:solidFill>
                    <a:srgbClr val="000000"/>
                  </a:solidFill>
                  <a:latin typeface="Siemens Sans"/>
                </a:rPr>
                <a:t>UMTS C-Cla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489640" y="3149640"/>
              <a:ext cx="477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5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578560" y="361008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5 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4114800" y="3619440"/>
            <a:ext cx="1851120" cy="734400"/>
            <a:chOff x="4114800" y="3619440"/>
            <a:chExt cx="1851120" cy="734400"/>
          </a:xfrm>
        </p:grpSpPr>
        <p:sp>
          <p:nvSpPr>
            <p:cNvPr id="467" name=""/>
            <p:cNvSpPr/>
            <p:nvPr/>
          </p:nvSpPr>
          <p:spPr>
            <a:xfrm>
              <a:off x="4597560" y="3710160"/>
              <a:ext cx="13683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Swif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</a:t>
              </a:r>
              <a:r>
                <a:rPr b="0" i="1" lang="de-DE" sz="800" spc="-1" strike="noStrike">
                  <a:solidFill>
                    <a:srgbClr val="000000"/>
                  </a:solidFill>
                  <a:latin typeface="Siemens Sans"/>
                </a:rPr>
                <a:t>Minos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4233960" y="3903840"/>
              <a:ext cx="303120" cy="204120"/>
              <a:chOff x="4233960" y="3903840"/>
              <a:chExt cx="303120" cy="204120"/>
            </a:xfrm>
          </p:grpSpPr>
          <p:sp>
            <p:nvSpPr>
              <p:cNvPr id="469" name=""/>
              <p:cNvSpPr/>
              <p:nvPr/>
            </p:nvSpPr>
            <p:spPr>
              <a:xfrm>
                <a:off x="4233960" y="4008240"/>
                <a:ext cx="236520" cy="9972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317840" y="4022640"/>
                <a:ext cx="152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286160" y="40464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265640" y="407196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H="1">
                <a:off x="4279680" y="4022640"/>
                <a:ext cx="76320" cy="66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238640" y="409104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H="1">
                <a:off x="4314600" y="402408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H="1">
                <a:off x="4356000" y="4022640"/>
                <a:ext cx="76320" cy="66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300560" y="3903840"/>
                <a:ext cx="236520" cy="1234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375080" y="393516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332240" y="39798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0" name=""/>
            <p:cNvSpPr/>
            <p:nvPr/>
          </p:nvSpPr>
          <p:spPr>
            <a:xfrm>
              <a:off x="4114800" y="3645000"/>
              <a:ext cx="888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iemens Sans"/>
                </a:rPr>
                <a:t>03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513320" y="3619440"/>
              <a:ext cx="122040" cy="111240"/>
            </a:xfrm>
            <a:prstGeom prst="ellipse">
              <a:avLst/>
            </a:prstGeom>
            <a:solidFill>
              <a:srgbClr val="8c9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159440" y="42163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5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597560" y="4013280"/>
              <a:ext cx="1331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1ID: Multimedia;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1ID: Busin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6875640" y="3002040"/>
            <a:ext cx="1322280" cy="600120"/>
            <a:chOff x="6875640" y="3002040"/>
            <a:chExt cx="1322280" cy="600120"/>
          </a:xfrm>
        </p:grpSpPr>
        <p:sp>
          <p:nvSpPr>
            <p:cNvPr id="485" name=""/>
            <p:cNvSpPr/>
            <p:nvPr/>
          </p:nvSpPr>
          <p:spPr>
            <a:xfrm>
              <a:off x="6875640" y="333540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80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6" name=""/>
            <p:cNvGrpSpPr/>
            <p:nvPr/>
          </p:nvGrpSpPr>
          <p:grpSpPr>
            <a:xfrm>
              <a:off x="7108920" y="3002040"/>
              <a:ext cx="1089000" cy="600120"/>
              <a:chOff x="7108920" y="3002040"/>
              <a:chExt cx="1089000" cy="600120"/>
            </a:xfrm>
          </p:grpSpPr>
          <p:sp>
            <p:nvSpPr>
              <p:cNvPr id="487" name=""/>
              <p:cNvSpPr/>
              <p:nvPr/>
            </p:nvSpPr>
            <p:spPr>
              <a:xfrm>
                <a:off x="7358040" y="3170160"/>
                <a:ext cx="839880" cy="43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Siemens Sans"/>
                  </a:rPr>
                  <a:t>Rave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Siemens Sans"/>
                  </a:rPr>
                  <a:t>(Taurus II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84160"/>
                    <a:tab algn="l" pos="1768320"/>
                    <a:tab algn="l" pos="2652840"/>
                    <a:tab algn="l" pos="3537000"/>
                    <a:tab algn="l" pos="4421160"/>
                    <a:tab algn="l" pos="5305320"/>
                    <a:tab algn="l" pos="6189840"/>
                    <a:tab algn="l" pos="7074000"/>
                    <a:tab algn="l" pos="7958160"/>
                    <a:tab algn="l" pos="8842320"/>
                    <a:tab algn="l" pos="9726480"/>
                    <a:tab algn="l" pos="10611000"/>
                  </a:tabLst>
                </a:pPr>
                <a:r>
                  <a:rPr b="1" i="1" lang="en-GB" sz="800" spc="-1" strike="noStrike">
                    <a:solidFill>
                      <a:srgbClr val="000000"/>
                    </a:solidFill>
                    <a:latin typeface="Siemens Sans"/>
                  </a:rPr>
                  <a:t>Outdoor, A-GP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385040" y="3002040"/>
                <a:ext cx="365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Siemens Sans"/>
                  </a:rPr>
                  <a:t>08/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9" name=""/>
              <p:cNvGrpSpPr/>
              <p:nvPr/>
            </p:nvGrpSpPr>
            <p:grpSpPr>
              <a:xfrm>
                <a:off x="7108920" y="3203640"/>
                <a:ext cx="186840" cy="349200"/>
                <a:chOff x="7108920" y="3203640"/>
                <a:chExt cx="186840" cy="34920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7183440" y="3203640"/>
                  <a:ext cx="112320" cy="209520"/>
                </a:xfrm>
                <a:custGeom>
                  <a:avLst/>
                  <a:gdLst>
                    <a:gd name="textAreaLeft" fmla="*/ 5400 w 112320"/>
                    <a:gd name="textAreaRight" fmla="*/ 106920 w 112320"/>
                    <a:gd name="textAreaTop" fmla="*/ 5400 h 209520"/>
                    <a:gd name="textAreaBottom" fmla="*/ 204120 h 209520"/>
                  </a:gdLst>
                  <a:ahLst/>
                  <a:rect l="textAreaLeft" t="textAreaTop" r="textAreaRight" b="textAreaBottom"/>
                  <a:pathLst>
                    <a:path w="21600" h="40233">
                      <a:moveTo>
                        <a:pt x="3600" y="0"/>
                      </a:moveTo>
                      <a:arcTo wR="3600" hR="3600" stAng="16200000" swAng="-5400000"/>
                      <a:lnTo>
                        <a:pt x="0" y="36633"/>
                      </a:lnTo>
                      <a:arcTo wR="3600" hR="3600" stAng="10800000" swAng="-5400000"/>
                      <a:lnTo>
                        <a:pt x="18000" y="40233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7108920" y="3411720"/>
                  <a:ext cx="174240" cy="141120"/>
                </a:xfrm>
                <a:custGeom>
                  <a:avLst/>
                  <a:gdLst/>
                  <a:ahLst/>
                  <a:rect l="l" t="t" r="r" b="b"/>
                  <a:pathLst>
                    <a:path w="297" h="195">
                      <a:moveTo>
                        <a:pt x="126" y="3"/>
                      </a:moveTo>
                      <a:lnTo>
                        <a:pt x="294" y="0"/>
                      </a:lnTo>
                      <a:lnTo>
                        <a:pt x="297" y="27"/>
                      </a:lnTo>
                      <a:lnTo>
                        <a:pt x="174" y="195"/>
                      </a:lnTo>
                      <a:lnTo>
                        <a:pt x="6" y="192"/>
                      </a:lnTo>
                      <a:lnTo>
                        <a:pt x="0" y="174"/>
                      </a:lnTo>
                      <a:lnTo>
                        <a:pt x="126" y="3"/>
                      </a:lnTo>
                      <a:close/>
                    </a:path>
                  </a:pathLst>
                </a:custGeom>
                <a:solidFill>
                  <a:srgbClr val="e68d34"/>
                </a:solidFill>
                <a:ln w="9360">
                  <a:solidFill>
                    <a:srgbClr val="dddddd"/>
                  </a:solidFill>
                  <a:round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7183440" y="3273480"/>
                  <a:ext cx="1105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7183440" y="337824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7170480" y="343080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7146720" y="3465720"/>
                  <a:ext cx="114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7130880" y="3500640"/>
                  <a:ext cx="1141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 flipH="1">
                  <a:off x="7142040" y="3430800"/>
                  <a:ext cx="568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7111800" y="3529080"/>
                  <a:ext cx="112320" cy="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flipH="1">
                  <a:off x="7168680" y="3432240"/>
                  <a:ext cx="55080" cy="968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 flipH="1">
                  <a:off x="7197480" y="3430800"/>
                  <a:ext cx="56880" cy="95040"/>
                </a:xfrm>
                <a:prstGeom prst="line">
                  <a:avLst/>
                </a:prstGeom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1" name=""/>
              <p:cNvSpPr/>
              <p:nvPr/>
            </p:nvSpPr>
            <p:spPr>
              <a:xfrm>
                <a:off x="7172280" y="3051000"/>
                <a:ext cx="130320" cy="1112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2" name=""/>
          <p:cNvGrpSpPr/>
          <p:nvPr/>
        </p:nvGrpSpPr>
        <p:grpSpPr>
          <a:xfrm>
            <a:off x="4280400" y="4343400"/>
            <a:ext cx="2452320" cy="675720"/>
            <a:chOff x="4280400" y="4343400"/>
            <a:chExt cx="2452320" cy="675720"/>
          </a:xfrm>
        </p:grpSpPr>
        <p:grpSp>
          <p:nvGrpSpPr>
            <p:cNvPr id="503" name=""/>
            <p:cNvGrpSpPr/>
            <p:nvPr/>
          </p:nvGrpSpPr>
          <p:grpSpPr>
            <a:xfrm>
              <a:off x="4633920" y="4483080"/>
              <a:ext cx="186840" cy="349200"/>
              <a:chOff x="4633920" y="4483080"/>
              <a:chExt cx="186840" cy="349200"/>
            </a:xfrm>
          </p:grpSpPr>
          <p:sp>
            <p:nvSpPr>
              <p:cNvPr id="504" name=""/>
              <p:cNvSpPr/>
              <p:nvPr/>
            </p:nvSpPr>
            <p:spPr>
              <a:xfrm>
                <a:off x="4708440" y="4483080"/>
                <a:ext cx="112320" cy="209520"/>
              </a:xfrm>
              <a:custGeom>
                <a:avLst/>
                <a:gdLst>
                  <a:gd name="textAreaLeft" fmla="*/ 5400 w 112320"/>
                  <a:gd name="textAreaRight" fmla="*/ 106920 w 112320"/>
                  <a:gd name="textAreaTop" fmla="*/ 5400 h 209520"/>
                  <a:gd name="textAreaBottom" fmla="*/ 204120 h 209520"/>
                </a:gdLst>
                <a:ahLst/>
                <a:rect l="textAreaLeft" t="textAreaTop" r="textAreaRight" b="textAreaBottom"/>
                <a:pathLst>
                  <a:path w="21600" h="40233">
                    <a:moveTo>
                      <a:pt x="3600" y="0"/>
                    </a:moveTo>
                    <a:arcTo wR="3600" hR="3600" stAng="16200000" swAng="-5400000"/>
                    <a:lnTo>
                      <a:pt x="0" y="36633"/>
                    </a:lnTo>
                    <a:arcTo wR="3600" hR="3600" stAng="10800000" swAng="-5400000"/>
                    <a:lnTo>
                      <a:pt x="18000" y="4023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633920" y="4691160"/>
                <a:ext cx="174240" cy="14112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4708440" y="4552920"/>
                <a:ext cx="1105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4708440" y="465768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695480" y="471024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671720" y="474516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655880" y="478008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H="1">
                <a:off x="4667040" y="4710240"/>
                <a:ext cx="568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636800" y="480852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4693680" y="4711680"/>
                <a:ext cx="550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H="1">
                <a:off x="4722480" y="4710240"/>
                <a:ext cx="56880" cy="950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5" name=""/>
            <p:cNvSpPr/>
            <p:nvPr/>
          </p:nvSpPr>
          <p:spPr>
            <a:xfrm>
              <a:off x="4919760" y="4411800"/>
              <a:ext cx="181296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Siemens Sans"/>
                </a:rPr>
                <a:t>Nightingale</a:t>
              </a:r>
              <a:r>
                <a:rPr b="0" lang="de-DE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Adonis II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Siemens Sans"/>
                </a:rPr>
                <a:t>(2nd ID China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i="1" lang="de-DE" sz="800" spc="-1" strike="noStrike">
                  <a:solidFill>
                    <a:srgbClr val="000000"/>
                  </a:solidFill>
                  <a:latin typeface="Siemens Sans"/>
                </a:rPr>
                <a:t>Young  Music / Stereo loudsp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280400" y="457056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4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778280" y="4343400"/>
              <a:ext cx="130320" cy="1112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83520" y="488160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25€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614840" y="4356000"/>
              <a:ext cx="122400" cy="111240"/>
            </a:xfrm>
            <a:prstGeom prst="ellipse">
              <a:avLst/>
            </a:prstGeom>
            <a:solidFill>
              <a:srgbClr val="8c9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0" name=""/>
          <p:cNvSpPr/>
          <p:nvPr/>
        </p:nvSpPr>
        <p:spPr>
          <a:xfrm>
            <a:off x="609120" y="293040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Siemens San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63040" y="431496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Siemens San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7256520" y="4197240"/>
            <a:ext cx="2068200" cy="349200"/>
            <a:chOff x="7256520" y="4197240"/>
            <a:chExt cx="2068200" cy="349200"/>
          </a:xfrm>
        </p:grpSpPr>
        <p:sp>
          <p:nvSpPr>
            <p:cNvPr id="523" name=""/>
            <p:cNvSpPr/>
            <p:nvPr/>
          </p:nvSpPr>
          <p:spPr>
            <a:xfrm>
              <a:off x="7956360" y="4267080"/>
              <a:ext cx="1368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Siemens Sans"/>
                </a:rPr>
                <a:t>Swift I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256520" y="4333680"/>
              <a:ext cx="888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iemens Sans"/>
                </a:rPr>
                <a:t>09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5" name=""/>
            <p:cNvGrpSpPr/>
            <p:nvPr/>
          </p:nvGrpSpPr>
          <p:grpSpPr>
            <a:xfrm>
              <a:off x="7688160" y="4197240"/>
              <a:ext cx="186840" cy="349200"/>
              <a:chOff x="7688160" y="4197240"/>
              <a:chExt cx="186840" cy="349200"/>
            </a:xfrm>
          </p:grpSpPr>
          <p:sp>
            <p:nvSpPr>
              <p:cNvPr id="526" name=""/>
              <p:cNvSpPr/>
              <p:nvPr/>
            </p:nvSpPr>
            <p:spPr>
              <a:xfrm>
                <a:off x="7762680" y="4197240"/>
                <a:ext cx="112320" cy="209520"/>
              </a:xfrm>
              <a:custGeom>
                <a:avLst/>
                <a:gdLst>
                  <a:gd name="textAreaLeft" fmla="*/ 5400 w 112320"/>
                  <a:gd name="textAreaRight" fmla="*/ 106920 w 112320"/>
                  <a:gd name="textAreaTop" fmla="*/ 5400 h 209520"/>
                  <a:gd name="textAreaBottom" fmla="*/ 204120 h 209520"/>
                </a:gdLst>
                <a:ahLst/>
                <a:rect l="textAreaLeft" t="textAreaTop" r="textAreaRight" b="textAreaBottom"/>
                <a:pathLst>
                  <a:path w="21600" h="40233">
                    <a:moveTo>
                      <a:pt x="3600" y="0"/>
                    </a:moveTo>
                    <a:arcTo wR="3600" hR="3600" stAng="16200000" swAng="-5400000"/>
                    <a:lnTo>
                      <a:pt x="0" y="36633"/>
                    </a:lnTo>
                    <a:arcTo wR="3600" hR="3600" stAng="10800000" swAng="-5400000"/>
                    <a:lnTo>
                      <a:pt x="18000" y="4023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688160" y="4404960"/>
                <a:ext cx="174240" cy="1414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7762680" y="426708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7762680" y="437184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7749720" y="442404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725960" y="445896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7710120" y="4493880"/>
                <a:ext cx="11376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H="1">
                <a:off x="7721280" y="4424040"/>
                <a:ext cx="568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691040" y="452268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H="1">
                <a:off x="7747920" y="4425840"/>
                <a:ext cx="550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H="1">
                <a:off x="7778160" y="4424040"/>
                <a:ext cx="550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5319720" y="2381400"/>
            <a:ext cx="36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265560" y="6416640"/>
            <a:ext cx="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41120" y="1052640"/>
            <a:ext cx="885672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265560" y="6416640"/>
            <a:ext cx="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08000" y="203040"/>
            <a:ext cx="875988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Siemens Sans"/>
              </a:rPr>
              <a:t>85G Roadmap for Ch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rot="16200000">
            <a:off x="8280720" y="3728520"/>
            <a:ext cx="140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Siemens Sans"/>
              </a:rPr>
              <a:t>No </a:t>
            </a:r>
            <a:r>
              <a:rPr b="1" i="1" lang="en-US" sz="1200" spc="-1" strike="noStrike">
                <a:solidFill>
                  <a:srgbClr val="000000"/>
                </a:solidFill>
                <a:latin typeface="Siemens Sans"/>
              </a:rPr>
              <a:t>price</a:t>
            </a:r>
            <a:r>
              <a:rPr b="1" i="1" lang="de-DE" sz="1200" spc="-1" strike="noStrike">
                <a:solidFill>
                  <a:srgbClr val="000000"/>
                </a:solidFill>
                <a:latin typeface="Siemens Sans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Siemens Sans"/>
              </a:rPr>
              <a:t>indication</a:t>
            </a:r>
            <a:r>
              <a:rPr b="1" i="1" lang="de-DE" sz="1000" spc="-1" strike="noStrike">
                <a:solidFill>
                  <a:srgbClr val="000000"/>
                </a:solidFill>
                <a:latin typeface="Siemens San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425520" y="6072120"/>
            <a:ext cx="8175600" cy="426960"/>
            <a:chOff x="425520" y="6072120"/>
            <a:chExt cx="8175600" cy="426960"/>
          </a:xfrm>
        </p:grpSpPr>
        <p:grpSp>
          <p:nvGrpSpPr>
            <p:cNvPr id="544" name=""/>
            <p:cNvGrpSpPr/>
            <p:nvPr/>
          </p:nvGrpSpPr>
          <p:grpSpPr>
            <a:xfrm>
              <a:off x="425520" y="6288120"/>
              <a:ext cx="8175600" cy="210960"/>
              <a:chOff x="425520" y="6288120"/>
              <a:chExt cx="8175600" cy="210960"/>
            </a:xfrm>
          </p:grpSpPr>
          <p:sp>
            <p:nvSpPr>
              <p:cNvPr id="545" name=""/>
              <p:cNvSpPr/>
              <p:nvPr/>
            </p:nvSpPr>
            <p:spPr>
              <a:xfrm>
                <a:off x="425520" y="6288120"/>
                <a:ext cx="8175600" cy="21096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3850200" y="6308640"/>
                <a:ext cx="1328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FY 20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7" name=""/>
            <p:cNvGrpSpPr/>
            <p:nvPr/>
          </p:nvGrpSpPr>
          <p:grpSpPr>
            <a:xfrm>
              <a:off x="425520" y="6072120"/>
              <a:ext cx="8170200" cy="201600"/>
              <a:chOff x="425520" y="6072120"/>
              <a:chExt cx="8170200" cy="201600"/>
            </a:xfrm>
          </p:grpSpPr>
          <p:sp>
            <p:nvSpPr>
              <p:cNvPr id="548" name=""/>
              <p:cNvSpPr/>
              <p:nvPr/>
            </p:nvSpPr>
            <p:spPr>
              <a:xfrm>
                <a:off x="425520" y="6072120"/>
                <a:ext cx="2027160" cy="2016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471400" y="6072120"/>
                <a:ext cx="2027160" cy="2016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6568920" y="6072120"/>
                <a:ext cx="2026800" cy="2016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4520880" y="6072120"/>
                <a:ext cx="2027160" cy="20160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e6f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911160" y="6073920"/>
                <a:ext cx="971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Q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922480" y="6073920"/>
                <a:ext cx="971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Q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4979880" y="6073920"/>
                <a:ext cx="971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Q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7011720" y="6073920"/>
                <a:ext cx="971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80880" indent="-380880">
                  <a:lnSpc>
                    <a:spcPct val="100000"/>
                  </a:lnSpc>
                  <a:tabLst>
                    <a:tab algn="l" pos="0"/>
                    <a:tab algn="l" pos="1050840"/>
                    <a:tab algn="l" pos="2101680"/>
                    <a:tab algn="l" pos="3152880"/>
                    <a:tab algn="l" pos="4203720"/>
                    <a:tab algn="l" pos="5254560"/>
                    <a:tab algn="l" pos="6305400"/>
                    <a:tab algn="l" pos="7356600"/>
                    <a:tab algn="l" pos="8407440"/>
                    <a:tab algn="l" pos="9458280"/>
                    <a:tab algn="l" pos="1050912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Siemens Sans"/>
                  </a:rPr>
                  <a:t>Q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56" name=""/>
          <p:cNvGrpSpPr/>
          <p:nvPr/>
        </p:nvGrpSpPr>
        <p:grpSpPr>
          <a:xfrm>
            <a:off x="422280" y="1228680"/>
            <a:ext cx="8165880" cy="420480"/>
            <a:chOff x="422280" y="1228680"/>
            <a:chExt cx="8165880" cy="420480"/>
          </a:xfrm>
        </p:grpSpPr>
        <p:sp>
          <p:nvSpPr>
            <p:cNvPr id="557" name=""/>
            <p:cNvSpPr/>
            <p:nvPr/>
          </p:nvSpPr>
          <p:spPr>
            <a:xfrm>
              <a:off x="2467080" y="1447560"/>
              <a:ext cx="2023920" cy="20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559560" y="1447560"/>
              <a:ext cx="2023920" cy="20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22280" y="1228680"/>
              <a:ext cx="8165880" cy="2109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917800" y="1449000"/>
              <a:ext cx="9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Q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818160" y="1249200"/>
              <a:ext cx="1328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FY 200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000920" y="1449000"/>
              <a:ext cx="9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Q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13320" y="1447560"/>
              <a:ext cx="2025360" cy="20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22280" y="1447560"/>
              <a:ext cx="2025720" cy="20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e6f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06480" y="1449000"/>
              <a:ext cx="9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970520" y="1449000"/>
              <a:ext cx="9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80880" indent="-380880">
                <a:lnSpc>
                  <a:spcPct val="100000"/>
                </a:lnSpc>
                <a:tabLst>
                  <a:tab algn="l" pos="0"/>
                  <a:tab algn="l" pos="1050840"/>
                  <a:tab algn="l" pos="2101680"/>
                  <a:tab algn="l" pos="3152880"/>
                  <a:tab algn="l" pos="4203720"/>
                  <a:tab algn="l" pos="5254560"/>
                  <a:tab algn="l" pos="6305400"/>
                  <a:tab algn="l" pos="7356600"/>
                  <a:tab algn="l" pos="8407440"/>
                  <a:tab algn="l" pos="9458280"/>
                  <a:tab algn="l" pos="1050912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Siemens Sans"/>
                </a:rPr>
                <a:t>Q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7" name=""/>
          <p:cNvSpPr/>
          <p:nvPr/>
        </p:nvSpPr>
        <p:spPr>
          <a:xfrm>
            <a:off x="2459160" y="1488960"/>
            <a:ext cx="0" cy="475164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500720" y="1488960"/>
            <a:ext cx="0" cy="475164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550200" y="1488960"/>
            <a:ext cx="0" cy="475164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8578800" y="1488960"/>
            <a:ext cx="0" cy="475164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30200" y="1488960"/>
            <a:ext cx="0" cy="4751640"/>
          </a:xfrm>
          <a:prstGeom prst="line">
            <a:avLst/>
          </a:prstGeom>
          <a:ln w="1260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076640" y="5249880"/>
            <a:ext cx="519120" cy="1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067360" y="3022560"/>
            <a:ext cx="519120" cy="1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294000" y="3149640"/>
            <a:ext cx="519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349960" y="3141720"/>
            <a:ext cx="85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695680" y="2916360"/>
            <a:ext cx="1092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825640" y="5300640"/>
            <a:ext cx="842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8602560" y="3110040"/>
            <a:ext cx="85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4633920" y="3902040"/>
            <a:ext cx="186840" cy="349200"/>
            <a:chOff x="4633920" y="3902040"/>
            <a:chExt cx="186840" cy="349200"/>
          </a:xfrm>
        </p:grpSpPr>
        <p:sp>
          <p:nvSpPr>
            <p:cNvPr id="580" name=""/>
            <p:cNvSpPr/>
            <p:nvPr/>
          </p:nvSpPr>
          <p:spPr>
            <a:xfrm>
              <a:off x="4708440" y="3902040"/>
              <a:ext cx="112320" cy="209520"/>
            </a:xfrm>
            <a:custGeom>
              <a:avLst/>
              <a:gdLst>
                <a:gd name="textAreaLeft" fmla="*/ 5400 w 112320"/>
                <a:gd name="textAreaRight" fmla="*/ 106920 w 112320"/>
                <a:gd name="textAreaTop" fmla="*/ 5400 h 209520"/>
                <a:gd name="textAreaBottom" fmla="*/ 204120 h 209520"/>
              </a:gdLst>
              <a:ahLst/>
              <a:rect l="textAreaLeft" t="textAreaTop" r="textAreaRight" b="textAreaBottom"/>
              <a:pathLst>
                <a:path w="21600" h="40233">
                  <a:moveTo>
                    <a:pt x="3600" y="0"/>
                  </a:moveTo>
                  <a:arcTo wR="3600" hR="3600" stAng="16200000" swAng="-5400000"/>
                  <a:lnTo>
                    <a:pt x="0" y="36633"/>
                  </a:lnTo>
                  <a:arcTo wR="3600" hR="3600" stAng="10800000" swAng="-5400000"/>
                  <a:lnTo>
                    <a:pt x="18000" y="4023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68d34"/>
            </a:soli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633920" y="4110120"/>
              <a:ext cx="174240" cy="14112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e68d34"/>
            </a:solidFill>
            <a:ln w="9360">
              <a:solidFill>
                <a:srgbClr val="dddddd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708440" y="3971880"/>
              <a:ext cx="1105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708440" y="4076640"/>
              <a:ext cx="1123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695480" y="4129200"/>
              <a:ext cx="1123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671720" y="4164120"/>
              <a:ext cx="1141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655880" y="4199040"/>
              <a:ext cx="1141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>
              <a:off x="4667040" y="4129200"/>
              <a:ext cx="56880" cy="968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636800" y="4227480"/>
              <a:ext cx="1123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>
              <a:off x="4693680" y="4130640"/>
              <a:ext cx="55080" cy="968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>
              <a:off x="4722480" y="4129200"/>
              <a:ext cx="56880" cy="950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4919760" y="3933720"/>
            <a:ext cx="181296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Siemens Sans"/>
              </a:rPr>
              <a:t>Nightingale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i="1" lang="de-DE" sz="800" spc="-1" strike="noStrike">
                <a:solidFill>
                  <a:srgbClr val="000000"/>
                </a:solidFill>
                <a:latin typeface="Siemens Sans"/>
              </a:rPr>
              <a:t>Stereo loudspeak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274640" y="3989520"/>
            <a:ext cx="334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Siemens Sans"/>
              </a:rPr>
              <a:t>04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5031720" y="4506840"/>
            <a:ext cx="1516680" cy="542880"/>
            <a:chOff x="5031720" y="4506840"/>
            <a:chExt cx="1516680" cy="542880"/>
          </a:xfrm>
        </p:grpSpPr>
        <p:sp>
          <p:nvSpPr>
            <p:cNvPr id="594" name=""/>
            <p:cNvSpPr/>
            <p:nvPr/>
          </p:nvSpPr>
          <p:spPr>
            <a:xfrm>
              <a:off x="5640480" y="4562640"/>
              <a:ext cx="9079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Siemens Sans"/>
                </a:rPr>
                <a:t>Brambl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Siemens Sans"/>
                </a:rPr>
                <a:t>Hermes I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Siemens Sans"/>
                </a:rPr>
                <a:t>Basic imag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31720" y="462276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5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5438880" y="4506840"/>
              <a:ext cx="109440" cy="371520"/>
              <a:chOff x="5438880" y="4506840"/>
              <a:chExt cx="109440" cy="371520"/>
            </a:xfrm>
          </p:grpSpPr>
          <p:sp>
            <p:nvSpPr>
              <p:cNvPr id="597" name=""/>
              <p:cNvSpPr/>
              <p:nvPr/>
            </p:nvSpPr>
            <p:spPr>
              <a:xfrm>
                <a:off x="5438880" y="4506840"/>
                <a:ext cx="109440" cy="371520"/>
              </a:xfrm>
              <a:custGeom>
                <a:avLst/>
                <a:gdLst>
                  <a:gd name="textAreaLeft" fmla="*/ 5040 w 109440"/>
                  <a:gd name="textAreaRight" fmla="*/ 104400 w 109440"/>
                  <a:gd name="textAreaTop" fmla="*/ 5040 h 371520"/>
                  <a:gd name="textAreaBottom" fmla="*/ 366480 h 371520"/>
                </a:gdLst>
                <a:ahLst/>
                <a:rect l="textAreaLeft" t="textAreaTop" r="textAreaRight" b="textAreaBottom"/>
                <a:pathLst>
                  <a:path w="21600" h="73157">
                    <a:moveTo>
                      <a:pt x="3600" y="0"/>
                    </a:moveTo>
                    <a:arcTo wR="3600" hR="3600" stAng="16200000" swAng="-5400000"/>
                    <a:lnTo>
                      <a:pt x="0" y="69557"/>
                    </a:lnTo>
                    <a:arcTo wR="3600" hR="3600" stAng="10800000" swAng="-5400000"/>
                    <a:lnTo>
                      <a:pt x="18000" y="7315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438880" y="458100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438880" y="469260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438880" y="472968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438880" y="476676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438880" y="480420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438880" y="4841280"/>
                <a:ext cx="1094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5520960" y="472968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5493600" y="472968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5466240" y="472968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7" name=""/>
          <p:cNvSpPr/>
          <p:nvPr/>
        </p:nvSpPr>
        <p:spPr>
          <a:xfrm>
            <a:off x="7254720" y="3371760"/>
            <a:ext cx="860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572000" y="3294000"/>
            <a:ext cx="1368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Siemens Sans"/>
              </a:rPr>
              <a:t>Swif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Siemens Sans"/>
              </a:rPr>
              <a:t>(</a:t>
            </a:r>
            <a:r>
              <a:rPr b="0" i="1" lang="de-DE" sz="800" spc="-1" strike="noStrike">
                <a:solidFill>
                  <a:srgbClr val="000000"/>
                </a:solidFill>
                <a:latin typeface="Siemens Sans"/>
              </a:rPr>
              <a:t>Minos II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i="1" lang="de-DE" sz="800" spc="-1" strike="noStrike">
                <a:solidFill>
                  <a:srgbClr val="000000"/>
                </a:solidFill>
                <a:latin typeface="Siemens Sans"/>
              </a:rPr>
              <a:t>Multimedia;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4221000" y="3398760"/>
            <a:ext cx="303120" cy="204840"/>
            <a:chOff x="4221000" y="3398760"/>
            <a:chExt cx="303120" cy="204840"/>
          </a:xfrm>
        </p:grpSpPr>
        <p:sp>
          <p:nvSpPr>
            <p:cNvPr id="610" name=""/>
            <p:cNvSpPr/>
            <p:nvPr/>
          </p:nvSpPr>
          <p:spPr>
            <a:xfrm>
              <a:off x="4221000" y="3503520"/>
              <a:ext cx="236520" cy="10008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dddddd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304880" y="3517920"/>
              <a:ext cx="1526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273200" y="354168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252680" y="356724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4266720" y="3517920"/>
              <a:ext cx="76320" cy="666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225680" y="358632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4301640" y="3519360"/>
              <a:ext cx="76320" cy="6696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4343040" y="3517920"/>
              <a:ext cx="76320" cy="666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287600" y="3398760"/>
              <a:ext cx="236520" cy="12384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dddddd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362120" y="343044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319280" y="347508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6316560" y="1916280"/>
            <a:ext cx="1263600" cy="285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Siemens Sans"/>
              </a:rPr>
              <a:t>Hummingbi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iemens Sans"/>
              </a:rPr>
              <a:t>(Hydra II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800" spc="-1" strike="noStrike">
                <a:solidFill>
                  <a:srgbClr val="000000"/>
                </a:solidFill>
                <a:latin typeface="Siemens Sans"/>
              </a:rPr>
              <a:t>High-end sty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863480" y="1893960"/>
            <a:ext cx="334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Siemens Sans"/>
              </a:rPr>
              <a:t>08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223280" y="4005360"/>
            <a:ext cx="334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Siemens Sans"/>
              </a:rPr>
              <a:t>11/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5280" y="4076640"/>
            <a:ext cx="933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Siemens Sans"/>
              </a:rPr>
              <a:t>Flaming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i="1" lang="de-DE" sz="800" spc="-1" strike="noStrike">
                <a:solidFill>
                  <a:srgbClr val="000000"/>
                </a:solidFill>
                <a:latin typeface="Siemens Sans"/>
              </a:rPr>
              <a:t>Stylish&amp;sm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i="1" lang="de-DE" sz="800" spc="-1" strike="noStrike">
                <a:solidFill>
                  <a:srgbClr val="000000"/>
                </a:solidFill>
                <a:latin typeface="Siemens Sans"/>
              </a:rPr>
              <a:t>affordable sli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8188200" y="3349800"/>
            <a:ext cx="187560" cy="349200"/>
            <a:chOff x="8188200" y="3349800"/>
            <a:chExt cx="187560" cy="349200"/>
          </a:xfrm>
        </p:grpSpPr>
        <p:sp>
          <p:nvSpPr>
            <p:cNvPr id="626" name=""/>
            <p:cNvSpPr/>
            <p:nvPr/>
          </p:nvSpPr>
          <p:spPr>
            <a:xfrm>
              <a:off x="8263080" y="3349800"/>
              <a:ext cx="112680" cy="209520"/>
            </a:xfrm>
            <a:custGeom>
              <a:avLst/>
              <a:gdLst>
                <a:gd name="textAreaLeft" fmla="*/ 5400 w 112680"/>
                <a:gd name="textAreaRight" fmla="*/ 107280 w 112680"/>
                <a:gd name="textAreaTop" fmla="*/ 5400 h 209520"/>
                <a:gd name="textAreaBottom" fmla="*/ 204120 h 209520"/>
              </a:gdLst>
              <a:ahLst/>
              <a:rect l="textAreaLeft" t="textAreaTop" r="textAreaRight" b="textAreaBottom"/>
              <a:pathLst>
                <a:path w="21600" h="40104">
                  <a:moveTo>
                    <a:pt x="3600" y="0"/>
                  </a:moveTo>
                  <a:arcTo wR="3600" hR="3600" stAng="16200000" swAng="-5400000"/>
                  <a:lnTo>
                    <a:pt x="0" y="36504"/>
                  </a:lnTo>
                  <a:arcTo wR="3600" hR="3600" stAng="10800000" swAng="-5400000"/>
                  <a:lnTo>
                    <a:pt x="18000" y="4010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68d34"/>
            </a:soli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8188200" y="3557520"/>
              <a:ext cx="174600" cy="14148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e68d34"/>
            </a:solidFill>
            <a:ln w="9360">
              <a:solidFill>
                <a:srgbClr val="dddddd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263080" y="3419640"/>
              <a:ext cx="1126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8263080" y="3524400"/>
              <a:ext cx="1126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8250120" y="3576600"/>
              <a:ext cx="1126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8226360" y="3611520"/>
              <a:ext cx="1144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210520" y="3646440"/>
              <a:ext cx="1141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8221320" y="3576600"/>
              <a:ext cx="57240" cy="968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8191440" y="3675240"/>
              <a:ext cx="1126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8248680" y="3578400"/>
              <a:ext cx="55440" cy="968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>
              <a:off x="8278920" y="3576600"/>
              <a:ext cx="55440" cy="968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7" name=""/>
          <p:cNvSpPr/>
          <p:nvPr/>
        </p:nvSpPr>
        <p:spPr>
          <a:xfrm>
            <a:off x="7837200" y="3357720"/>
            <a:ext cx="270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cc0000"/>
                </a:solidFill>
                <a:latin typeface="Siemens Sans"/>
              </a:rPr>
              <a:t>09/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740720" y="3500280"/>
            <a:ext cx="890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Siemens Sans"/>
              </a:rPr>
              <a:t>Swall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Siemens Sans"/>
              </a:rPr>
              <a:t>(Minos III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1332000" y="5516640"/>
            <a:ext cx="1468440" cy="376560"/>
            <a:chOff x="1332000" y="5516640"/>
            <a:chExt cx="1468440" cy="376560"/>
          </a:xfrm>
        </p:grpSpPr>
        <p:grpSp>
          <p:nvGrpSpPr>
            <p:cNvPr id="640" name=""/>
            <p:cNvGrpSpPr/>
            <p:nvPr/>
          </p:nvGrpSpPr>
          <p:grpSpPr>
            <a:xfrm>
              <a:off x="2689200" y="5516640"/>
              <a:ext cx="111240" cy="371520"/>
              <a:chOff x="2689200" y="5516640"/>
              <a:chExt cx="111240" cy="371520"/>
            </a:xfrm>
          </p:grpSpPr>
          <p:sp>
            <p:nvSpPr>
              <p:cNvPr id="641" name=""/>
              <p:cNvSpPr/>
              <p:nvPr/>
            </p:nvSpPr>
            <p:spPr>
              <a:xfrm>
                <a:off x="2689200" y="5516640"/>
                <a:ext cx="111240" cy="371520"/>
              </a:xfrm>
              <a:custGeom>
                <a:avLst/>
                <a:gdLst>
                  <a:gd name="textAreaLeft" fmla="*/ 5400 w 111240"/>
                  <a:gd name="textAreaRight" fmla="*/ 105840 w 111240"/>
                  <a:gd name="textAreaTop" fmla="*/ 5400 h 371520"/>
                  <a:gd name="textAreaBottom" fmla="*/ 366120 h 371520"/>
                </a:gdLst>
                <a:ahLst/>
                <a:rect l="textAreaLeft" t="textAreaTop" r="textAreaRight" b="textAreaBottom"/>
                <a:pathLst>
                  <a:path w="21600" h="71977">
                    <a:moveTo>
                      <a:pt x="3600" y="0"/>
                    </a:moveTo>
                    <a:arcTo wR="3600" hR="3600" stAng="16200000" swAng="-5400000"/>
                    <a:lnTo>
                      <a:pt x="0" y="68377"/>
                    </a:lnTo>
                    <a:arcTo wR="3600" hR="3600" stAng="10800000" swAng="-5400000"/>
                    <a:lnTo>
                      <a:pt x="18000" y="7197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689200" y="559080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2689200" y="570240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2689200" y="573948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2689200" y="577656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2689200" y="581400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2689200" y="585108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2772720" y="573948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2744640" y="573948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2716920" y="573948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1" name=""/>
            <p:cNvSpPr/>
            <p:nvPr/>
          </p:nvSpPr>
          <p:spPr>
            <a:xfrm>
              <a:off x="1332000" y="5527800"/>
              <a:ext cx="12808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Siemens Sans"/>
                </a:rPr>
                <a:t>Fin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Entry color MMS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307600" y="573552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cc0000"/>
                  </a:solidFill>
                  <a:latin typeface="Siemens Sans"/>
                </a:rPr>
                <a:t>01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" name=""/>
          <p:cNvSpPr/>
          <p:nvPr/>
        </p:nvSpPr>
        <p:spPr>
          <a:xfrm>
            <a:off x="3552840" y="4840200"/>
            <a:ext cx="1595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Siemens Sans"/>
              </a:rPr>
              <a:t>Siski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Siemens Sans"/>
              </a:rPr>
              <a:t>=Adonis DT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602160" y="4649760"/>
            <a:ext cx="47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Siemens Sans"/>
              </a:rPr>
              <a:t>02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005360" y="3313080"/>
            <a:ext cx="888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"/>
              </a:rPr>
              <a:t>03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978280" y="4008600"/>
            <a:ext cx="223560" cy="215640"/>
          </a:xfrm>
          <a:prstGeom prst="flowChartSort">
            <a:avLst/>
          </a:prstGeom>
          <a:solidFill>
            <a:srgbClr val="ff9933"/>
          </a:solidFill>
          <a:ln w="9360">
            <a:solidFill>
              <a:srgbClr val="dddddd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240000" y="4008600"/>
            <a:ext cx="822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Siemens Sans"/>
              </a:rPr>
              <a:t>CHN HW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Siemens Sans"/>
              </a:rPr>
              <a:t>(TBD) (PP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276720" y="3870360"/>
            <a:ext cx="477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Siemens Sans"/>
              </a:rPr>
              <a:t>02/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842760" y="3102120"/>
            <a:ext cx="1962360" cy="243720"/>
            <a:chOff x="842760" y="3102120"/>
            <a:chExt cx="1962360" cy="243720"/>
          </a:xfrm>
        </p:grpSpPr>
        <p:sp>
          <p:nvSpPr>
            <p:cNvPr id="660" name=""/>
            <p:cNvSpPr/>
            <p:nvPr/>
          </p:nvSpPr>
          <p:spPr>
            <a:xfrm>
              <a:off x="1517760" y="3102120"/>
              <a:ext cx="1287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Siemens Sans"/>
                </a:rPr>
                <a:t>Electra 2Mp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(TBD) (PPM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42760" y="3192480"/>
              <a:ext cx="270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Siemens Sans"/>
                </a:rPr>
                <a:t>11/0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1220760" y="4221000"/>
            <a:ext cx="303120" cy="204840"/>
            <a:chOff x="1220760" y="4221000"/>
            <a:chExt cx="303120" cy="204840"/>
          </a:xfrm>
        </p:grpSpPr>
        <p:sp>
          <p:nvSpPr>
            <p:cNvPr id="663" name=""/>
            <p:cNvSpPr/>
            <p:nvPr/>
          </p:nvSpPr>
          <p:spPr>
            <a:xfrm>
              <a:off x="1220760" y="4325760"/>
              <a:ext cx="236520" cy="10008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dddddd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304640" y="4340160"/>
              <a:ext cx="1526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272960" y="436392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252440" y="438948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>
              <a:off x="1266480" y="4340160"/>
              <a:ext cx="76320" cy="666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225440" y="440856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H="1">
              <a:off x="1301400" y="4341600"/>
              <a:ext cx="76320" cy="6696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1342800" y="4340160"/>
              <a:ext cx="76320" cy="666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287360" y="4221000"/>
              <a:ext cx="236520" cy="12384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dddddd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361880" y="425268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319040" y="429732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7507440" y="1854360"/>
            <a:ext cx="303120" cy="204120"/>
            <a:chOff x="7507440" y="1854360"/>
            <a:chExt cx="303120" cy="204120"/>
          </a:xfrm>
        </p:grpSpPr>
        <p:sp>
          <p:nvSpPr>
            <p:cNvPr id="675" name=""/>
            <p:cNvSpPr/>
            <p:nvPr/>
          </p:nvSpPr>
          <p:spPr>
            <a:xfrm>
              <a:off x="7507440" y="1958760"/>
              <a:ext cx="236520" cy="9972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dddddd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591320" y="1973160"/>
              <a:ext cx="1526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559640" y="199692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539120" y="202248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>
              <a:off x="7553160" y="1973160"/>
              <a:ext cx="76320" cy="66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512120" y="204156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>
              <a:off x="7588080" y="1974600"/>
              <a:ext cx="76320" cy="666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7629480" y="1973160"/>
              <a:ext cx="76320" cy="662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74040" y="1854360"/>
              <a:ext cx="236520" cy="12348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dddddd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48560" y="188568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605720" y="1930320"/>
              <a:ext cx="152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6" name=""/>
          <p:cNvGrpSpPr/>
          <p:nvPr/>
        </p:nvGrpSpPr>
        <p:grpSpPr>
          <a:xfrm>
            <a:off x="3313080" y="4748040"/>
            <a:ext cx="186840" cy="349200"/>
            <a:chOff x="3313080" y="4748040"/>
            <a:chExt cx="186840" cy="349200"/>
          </a:xfrm>
        </p:grpSpPr>
        <p:sp>
          <p:nvSpPr>
            <p:cNvPr id="687" name=""/>
            <p:cNvSpPr/>
            <p:nvPr/>
          </p:nvSpPr>
          <p:spPr>
            <a:xfrm>
              <a:off x="3387600" y="4748040"/>
              <a:ext cx="112320" cy="209520"/>
            </a:xfrm>
            <a:custGeom>
              <a:avLst/>
              <a:gdLst>
                <a:gd name="textAreaLeft" fmla="*/ 5400 w 112320"/>
                <a:gd name="textAreaRight" fmla="*/ 106920 w 112320"/>
                <a:gd name="textAreaTop" fmla="*/ 5400 h 209520"/>
                <a:gd name="textAreaBottom" fmla="*/ 204120 h 209520"/>
              </a:gdLst>
              <a:ahLst/>
              <a:rect l="textAreaLeft" t="textAreaTop" r="textAreaRight" b="textAreaBottom"/>
              <a:pathLst>
                <a:path w="21600" h="40233">
                  <a:moveTo>
                    <a:pt x="3600" y="0"/>
                  </a:moveTo>
                  <a:arcTo wR="3600" hR="3600" stAng="16200000" swAng="-5400000"/>
                  <a:lnTo>
                    <a:pt x="0" y="36633"/>
                  </a:lnTo>
                  <a:arcTo wR="3600" hR="3600" stAng="10800000" swAng="-5400000"/>
                  <a:lnTo>
                    <a:pt x="18000" y="4023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68d34"/>
            </a:soli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313080" y="4956120"/>
              <a:ext cx="174240" cy="14112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e68d34"/>
            </a:solidFill>
            <a:ln w="9360">
              <a:solidFill>
                <a:srgbClr val="dddddd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387600" y="4817880"/>
              <a:ext cx="1105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387600" y="4922640"/>
              <a:ext cx="1123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374640" y="4975200"/>
              <a:ext cx="1123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350880" y="5010120"/>
              <a:ext cx="1141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335040" y="5045040"/>
              <a:ext cx="1141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H="1">
              <a:off x="3346200" y="4975200"/>
              <a:ext cx="56880" cy="968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15960" y="5073480"/>
              <a:ext cx="1123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>
              <a:off x="3372840" y="4976640"/>
              <a:ext cx="55080" cy="968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>
              <a:off x="3401640" y="4975200"/>
              <a:ext cx="56880" cy="950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1217520" y="3116160"/>
            <a:ext cx="187560" cy="349200"/>
            <a:chOff x="1217520" y="3116160"/>
            <a:chExt cx="187560" cy="349200"/>
          </a:xfrm>
        </p:grpSpPr>
        <p:sp>
          <p:nvSpPr>
            <p:cNvPr id="699" name=""/>
            <p:cNvSpPr/>
            <p:nvPr/>
          </p:nvSpPr>
          <p:spPr>
            <a:xfrm>
              <a:off x="1292400" y="3116160"/>
              <a:ext cx="112680" cy="209520"/>
            </a:xfrm>
            <a:custGeom>
              <a:avLst/>
              <a:gdLst>
                <a:gd name="textAreaLeft" fmla="*/ 5400 w 112680"/>
                <a:gd name="textAreaRight" fmla="*/ 107280 w 112680"/>
                <a:gd name="textAreaTop" fmla="*/ 5400 h 209520"/>
                <a:gd name="textAreaBottom" fmla="*/ 204120 h 209520"/>
              </a:gdLst>
              <a:ahLst/>
              <a:rect l="textAreaLeft" t="textAreaTop" r="textAreaRight" b="textAreaBottom"/>
              <a:pathLst>
                <a:path w="21600" h="40104">
                  <a:moveTo>
                    <a:pt x="3600" y="0"/>
                  </a:moveTo>
                  <a:arcTo wR="3600" hR="3600" stAng="16200000" swAng="-5400000"/>
                  <a:lnTo>
                    <a:pt x="0" y="36504"/>
                  </a:lnTo>
                  <a:arcTo wR="3600" hR="3600" stAng="10800000" swAng="-5400000"/>
                  <a:lnTo>
                    <a:pt x="18000" y="4010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68d34"/>
            </a:soli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217520" y="3324240"/>
              <a:ext cx="174600" cy="141120"/>
            </a:xfrm>
            <a:custGeom>
              <a:avLst/>
              <a:gdLst/>
              <a:ahLst/>
              <a:rect l="l" t="t" r="r" b="b"/>
              <a:pathLst>
                <a:path w="297" h="195">
                  <a:moveTo>
                    <a:pt x="126" y="3"/>
                  </a:moveTo>
                  <a:lnTo>
                    <a:pt x="294" y="0"/>
                  </a:lnTo>
                  <a:lnTo>
                    <a:pt x="297" y="27"/>
                  </a:lnTo>
                  <a:lnTo>
                    <a:pt x="174" y="195"/>
                  </a:lnTo>
                  <a:lnTo>
                    <a:pt x="6" y="192"/>
                  </a:lnTo>
                  <a:lnTo>
                    <a:pt x="0" y="174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e68d34"/>
            </a:solidFill>
            <a:ln w="9360">
              <a:solidFill>
                <a:srgbClr val="dddddd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292400" y="3186000"/>
              <a:ext cx="1108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292400" y="3290760"/>
              <a:ext cx="1126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279440" y="3343320"/>
              <a:ext cx="1126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255680" y="3378240"/>
              <a:ext cx="1144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239840" y="3413160"/>
              <a:ext cx="1144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>
              <a:off x="1250640" y="3343320"/>
              <a:ext cx="57240" cy="968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20760" y="3441600"/>
              <a:ext cx="1126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>
              <a:off x="1278000" y="3344760"/>
              <a:ext cx="55440" cy="968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H="1">
              <a:off x="1306080" y="3343320"/>
              <a:ext cx="57240" cy="950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0" name=""/>
          <p:cNvGrpSpPr/>
          <p:nvPr/>
        </p:nvGrpSpPr>
        <p:grpSpPr>
          <a:xfrm>
            <a:off x="4797360" y="5661000"/>
            <a:ext cx="1143000" cy="412920"/>
            <a:chOff x="4797360" y="5661000"/>
            <a:chExt cx="1143000" cy="412920"/>
          </a:xfrm>
        </p:grpSpPr>
        <p:sp>
          <p:nvSpPr>
            <p:cNvPr id="711" name=""/>
            <p:cNvSpPr/>
            <p:nvPr/>
          </p:nvSpPr>
          <p:spPr>
            <a:xfrm>
              <a:off x="5058720" y="592128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5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2" name=""/>
            <p:cNvGrpSpPr/>
            <p:nvPr/>
          </p:nvGrpSpPr>
          <p:grpSpPr>
            <a:xfrm>
              <a:off x="5424480" y="5661000"/>
              <a:ext cx="111240" cy="371520"/>
              <a:chOff x="5424480" y="5661000"/>
              <a:chExt cx="111240" cy="371520"/>
            </a:xfrm>
          </p:grpSpPr>
          <p:sp>
            <p:nvSpPr>
              <p:cNvPr id="713" name=""/>
              <p:cNvSpPr/>
              <p:nvPr/>
            </p:nvSpPr>
            <p:spPr>
              <a:xfrm>
                <a:off x="5424480" y="5661000"/>
                <a:ext cx="111240" cy="371520"/>
              </a:xfrm>
              <a:custGeom>
                <a:avLst/>
                <a:gdLst>
                  <a:gd name="textAreaLeft" fmla="*/ 5400 w 111240"/>
                  <a:gd name="textAreaRight" fmla="*/ 105840 w 111240"/>
                  <a:gd name="textAreaTop" fmla="*/ 5400 h 371520"/>
                  <a:gd name="textAreaBottom" fmla="*/ 366120 h 371520"/>
                </a:gdLst>
                <a:ahLst/>
                <a:rect l="textAreaLeft" t="textAreaTop" r="textAreaRight" b="textAreaBottom"/>
                <a:pathLst>
                  <a:path w="21600" h="71977">
                    <a:moveTo>
                      <a:pt x="3600" y="0"/>
                    </a:moveTo>
                    <a:arcTo wR="3600" hR="3600" stAng="16200000" swAng="-5400000"/>
                    <a:lnTo>
                      <a:pt x="0" y="68377"/>
                    </a:lnTo>
                    <a:arcTo wR="3600" hR="3600" stAng="10800000" swAng="-5400000"/>
                    <a:lnTo>
                      <a:pt x="18000" y="7197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424480" y="573516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424480" y="584676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424480" y="588384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424480" y="592092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424480" y="595836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5424480" y="599544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5508000" y="588384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5479920" y="588384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5452200" y="588384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3" name=""/>
            <p:cNvSpPr/>
            <p:nvPr/>
          </p:nvSpPr>
          <p:spPr>
            <a:xfrm>
              <a:off x="4797360" y="5661000"/>
              <a:ext cx="11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cc0000"/>
                  </a:solidFill>
                  <a:latin typeface="Siemens Sans"/>
                </a:rPr>
                <a:t>Finch DT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cc0000"/>
                  </a:solidFill>
                  <a:latin typeface="Siemens Sans"/>
                </a:rPr>
                <a:t>(Dodo color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4" name=""/>
          <p:cNvSpPr/>
          <p:nvPr/>
        </p:nvSpPr>
        <p:spPr>
          <a:xfrm>
            <a:off x="9685440" y="393228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250920" y="4581360"/>
            <a:ext cx="1512720" cy="401760"/>
            <a:chOff x="250920" y="4581360"/>
            <a:chExt cx="1512720" cy="401760"/>
          </a:xfrm>
        </p:grpSpPr>
        <p:grpSp>
          <p:nvGrpSpPr>
            <p:cNvPr id="726" name=""/>
            <p:cNvGrpSpPr/>
            <p:nvPr/>
          </p:nvGrpSpPr>
          <p:grpSpPr>
            <a:xfrm>
              <a:off x="250920" y="4581360"/>
              <a:ext cx="110880" cy="371520"/>
              <a:chOff x="250920" y="4581360"/>
              <a:chExt cx="110880" cy="371520"/>
            </a:xfrm>
          </p:grpSpPr>
          <p:sp>
            <p:nvSpPr>
              <p:cNvPr id="727" name=""/>
              <p:cNvSpPr/>
              <p:nvPr/>
            </p:nvSpPr>
            <p:spPr>
              <a:xfrm>
                <a:off x="250920" y="4581360"/>
                <a:ext cx="110880" cy="371520"/>
              </a:xfrm>
              <a:custGeom>
                <a:avLst/>
                <a:gdLst>
                  <a:gd name="textAreaLeft" fmla="*/ 5400 w 110880"/>
                  <a:gd name="textAreaRight" fmla="*/ 105480 w 110880"/>
                  <a:gd name="textAreaTop" fmla="*/ 5400 h 371520"/>
                  <a:gd name="textAreaBottom" fmla="*/ 366120 h 371520"/>
                </a:gdLst>
                <a:ahLst/>
                <a:rect l="textAreaLeft" t="textAreaTop" r="textAreaRight" b="textAreaBottom"/>
                <a:pathLst>
                  <a:path w="21600" h="72210">
                    <a:moveTo>
                      <a:pt x="3600" y="0"/>
                    </a:moveTo>
                    <a:arcTo wR="3600" hR="3600" stAng="16200000" swAng="-5400000"/>
                    <a:lnTo>
                      <a:pt x="0" y="68610"/>
                    </a:lnTo>
                    <a:arcTo wR="3600" hR="3600" stAng="10800000" swAng="-5400000"/>
                    <a:lnTo>
                      <a:pt x="18000" y="7221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250920" y="465552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250920" y="476712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250920" y="480420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250920" y="484128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250920" y="487872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250920" y="491580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334080" y="480420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306360" y="480420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278640" y="480420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7" name=""/>
            <p:cNvSpPr/>
            <p:nvPr/>
          </p:nvSpPr>
          <p:spPr>
            <a:xfrm>
              <a:off x="482760" y="4861080"/>
              <a:ext cx="1280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cc0000"/>
                  </a:solidFill>
                  <a:latin typeface="Siemens Sans"/>
                </a:rPr>
                <a:t>Herm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58280" y="470232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9/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9" name=""/>
          <p:cNvGrpSpPr/>
          <p:nvPr/>
        </p:nvGrpSpPr>
        <p:grpSpPr>
          <a:xfrm>
            <a:off x="611280" y="5013360"/>
            <a:ext cx="1496880" cy="409320"/>
            <a:chOff x="611280" y="5013360"/>
            <a:chExt cx="1496880" cy="409320"/>
          </a:xfrm>
        </p:grpSpPr>
        <p:grpSp>
          <p:nvGrpSpPr>
            <p:cNvPr id="740" name=""/>
            <p:cNvGrpSpPr/>
            <p:nvPr/>
          </p:nvGrpSpPr>
          <p:grpSpPr>
            <a:xfrm>
              <a:off x="611280" y="5013360"/>
              <a:ext cx="110880" cy="371520"/>
              <a:chOff x="611280" y="5013360"/>
              <a:chExt cx="110880" cy="371520"/>
            </a:xfrm>
          </p:grpSpPr>
          <p:sp>
            <p:nvSpPr>
              <p:cNvPr id="741" name=""/>
              <p:cNvSpPr/>
              <p:nvPr/>
            </p:nvSpPr>
            <p:spPr>
              <a:xfrm>
                <a:off x="611280" y="5013360"/>
                <a:ext cx="110880" cy="371520"/>
              </a:xfrm>
              <a:custGeom>
                <a:avLst/>
                <a:gdLst>
                  <a:gd name="textAreaLeft" fmla="*/ 5400 w 110880"/>
                  <a:gd name="textAreaRight" fmla="*/ 105480 w 110880"/>
                  <a:gd name="textAreaTop" fmla="*/ 5400 h 371520"/>
                  <a:gd name="textAreaBottom" fmla="*/ 366120 h 371520"/>
                </a:gdLst>
                <a:ahLst/>
                <a:rect l="textAreaLeft" t="textAreaTop" r="textAreaRight" b="textAreaBottom"/>
                <a:pathLst>
                  <a:path w="21600" h="72210">
                    <a:moveTo>
                      <a:pt x="3600" y="0"/>
                    </a:moveTo>
                    <a:arcTo wR="3600" hR="3600" stAng="16200000" swAng="-5400000"/>
                    <a:lnTo>
                      <a:pt x="0" y="68610"/>
                    </a:lnTo>
                    <a:arcTo wR="3600" hR="3600" stAng="10800000" swAng="-5400000"/>
                    <a:lnTo>
                      <a:pt x="18000" y="7221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611280" y="508752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611280" y="519912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11280" y="523620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611280" y="527328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611280" y="531072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611280" y="534780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694440" y="523620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666720" y="523620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639000" y="523620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1" name=""/>
            <p:cNvSpPr/>
            <p:nvPr/>
          </p:nvSpPr>
          <p:spPr>
            <a:xfrm>
              <a:off x="818640" y="513396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10/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826920" y="5300640"/>
              <a:ext cx="1281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cc0000"/>
                  </a:solidFill>
                  <a:latin typeface="Siemens Sans"/>
                </a:rPr>
                <a:t>Hera VG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1216080" y="4592520"/>
            <a:ext cx="1555560" cy="462960"/>
            <a:chOff x="1216080" y="4592520"/>
            <a:chExt cx="1555560" cy="462960"/>
          </a:xfrm>
        </p:grpSpPr>
        <p:grpSp>
          <p:nvGrpSpPr>
            <p:cNvPr id="754" name=""/>
            <p:cNvGrpSpPr/>
            <p:nvPr/>
          </p:nvGrpSpPr>
          <p:grpSpPr>
            <a:xfrm>
              <a:off x="1216080" y="4592520"/>
              <a:ext cx="186840" cy="349200"/>
              <a:chOff x="1216080" y="4592520"/>
              <a:chExt cx="186840" cy="349200"/>
            </a:xfrm>
          </p:grpSpPr>
          <p:sp>
            <p:nvSpPr>
              <p:cNvPr id="755" name=""/>
              <p:cNvSpPr/>
              <p:nvPr/>
            </p:nvSpPr>
            <p:spPr>
              <a:xfrm>
                <a:off x="1290600" y="4592520"/>
                <a:ext cx="112320" cy="209520"/>
              </a:xfrm>
              <a:custGeom>
                <a:avLst/>
                <a:gdLst>
                  <a:gd name="textAreaLeft" fmla="*/ 5400 w 112320"/>
                  <a:gd name="textAreaRight" fmla="*/ 106920 w 112320"/>
                  <a:gd name="textAreaTop" fmla="*/ 5400 h 209520"/>
                  <a:gd name="textAreaBottom" fmla="*/ 204120 h 209520"/>
                </a:gdLst>
                <a:ahLst/>
                <a:rect l="textAreaLeft" t="textAreaTop" r="textAreaRight" b="textAreaBottom"/>
                <a:pathLst>
                  <a:path w="21600" h="40233">
                    <a:moveTo>
                      <a:pt x="3600" y="0"/>
                    </a:moveTo>
                    <a:arcTo wR="3600" hR="3600" stAng="16200000" swAng="-5400000"/>
                    <a:lnTo>
                      <a:pt x="0" y="36633"/>
                    </a:lnTo>
                    <a:arcTo wR="3600" hR="3600" stAng="10800000" swAng="-5400000"/>
                    <a:lnTo>
                      <a:pt x="18000" y="4023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1216080" y="4800600"/>
                <a:ext cx="174240" cy="14112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290600" y="4662360"/>
                <a:ext cx="1105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1290600" y="476712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1277640" y="481968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253880" y="485460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1238040" y="488952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>
                <a:off x="1249200" y="4819680"/>
                <a:ext cx="568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218960" y="491796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>
                <a:off x="1275840" y="4821120"/>
                <a:ext cx="550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H="1">
                <a:off x="1304640" y="4819680"/>
                <a:ext cx="56880" cy="950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6" name=""/>
            <p:cNvSpPr/>
            <p:nvPr/>
          </p:nvSpPr>
          <p:spPr>
            <a:xfrm>
              <a:off x="1490760" y="4811760"/>
              <a:ext cx="1280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cc0000"/>
                  </a:solidFill>
                  <a:latin typeface="Siemens Sans"/>
                </a:rPr>
                <a:t>Adon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cc0000"/>
                  </a:solidFill>
                  <a:latin typeface="Siemens Sans"/>
                </a:rPr>
                <a:t>New I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466280" y="465300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11/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8" name=""/>
          <p:cNvGrpSpPr/>
          <p:nvPr/>
        </p:nvGrpSpPr>
        <p:grpSpPr>
          <a:xfrm>
            <a:off x="2008080" y="4149720"/>
            <a:ext cx="1555920" cy="349200"/>
            <a:chOff x="2008080" y="4149720"/>
            <a:chExt cx="1555920" cy="349200"/>
          </a:xfrm>
        </p:grpSpPr>
        <p:grpSp>
          <p:nvGrpSpPr>
            <p:cNvPr id="769" name=""/>
            <p:cNvGrpSpPr/>
            <p:nvPr/>
          </p:nvGrpSpPr>
          <p:grpSpPr>
            <a:xfrm>
              <a:off x="2008080" y="4149720"/>
              <a:ext cx="187560" cy="349200"/>
              <a:chOff x="2008080" y="4149720"/>
              <a:chExt cx="187560" cy="349200"/>
            </a:xfrm>
          </p:grpSpPr>
          <p:sp>
            <p:nvSpPr>
              <p:cNvPr id="770" name=""/>
              <p:cNvSpPr/>
              <p:nvPr/>
            </p:nvSpPr>
            <p:spPr>
              <a:xfrm>
                <a:off x="2082960" y="4149720"/>
                <a:ext cx="112680" cy="209520"/>
              </a:xfrm>
              <a:custGeom>
                <a:avLst/>
                <a:gdLst>
                  <a:gd name="textAreaLeft" fmla="*/ 5400 w 112680"/>
                  <a:gd name="textAreaRight" fmla="*/ 107280 w 112680"/>
                  <a:gd name="textAreaTop" fmla="*/ 5400 h 209520"/>
                  <a:gd name="textAreaBottom" fmla="*/ 204120 h 209520"/>
                </a:gdLst>
                <a:ahLst/>
                <a:rect l="textAreaLeft" t="textAreaTop" r="textAreaRight" b="textAreaBottom"/>
                <a:pathLst>
                  <a:path w="21600" h="40104">
                    <a:moveTo>
                      <a:pt x="3600" y="0"/>
                    </a:moveTo>
                    <a:arcTo wR="3600" hR="3600" stAng="16200000" swAng="-5400000"/>
                    <a:lnTo>
                      <a:pt x="0" y="36504"/>
                    </a:lnTo>
                    <a:arcTo wR="3600" hR="3600" stAng="10800000" swAng="-5400000"/>
                    <a:lnTo>
                      <a:pt x="18000" y="4010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2008080" y="4357800"/>
                <a:ext cx="174600" cy="14112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2082960" y="421956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082960" y="4324320"/>
                <a:ext cx="1126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2070000" y="4376880"/>
                <a:ext cx="1126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2046240" y="4411800"/>
                <a:ext cx="1144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2030400" y="4446720"/>
                <a:ext cx="1144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flipH="1">
                <a:off x="2041200" y="4376880"/>
                <a:ext cx="5724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011320" y="4475160"/>
                <a:ext cx="1126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H="1">
                <a:off x="2068560" y="4378320"/>
                <a:ext cx="5544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flipH="1">
                <a:off x="2096640" y="4376880"/>
                <a:ext cx="57240" cy="950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1" name=""/>
            <p:cNvSpPr/>
            <p:nvPr/>
          </p:nvSpPr>
          <p:spPr>
            <a:xfrm>
              <a:off x="2282760" y="4368960"/>
              <a:ext cx="1281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cc0000"/>
                  </a:solidFill>
                  <a:latin typeface="Siemens Sans"/>
                </a:rPr>
                <a:t>Adonis II (TFT, MPix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258640" y="421020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12/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3" name=""/>
          <p:cNvGrpSpPr/>
          <p:nvPr/>
        </p:nvGrpSpPr>
        <p:grpSpPr>
          <a:xfrm>
            <a:off x="1963800" y="5084640"/>
            <a:ext cx="1280880" cy="360360"/>
            <a:chOff x="1963800" y="5084640"/>
            <a:chExt cx="1280880" cy="360360"/>
          </a:xfrm>
        </p:grpSpPr>
        <p:grpSp>
          <p:nvGrpSpPr>
            <p:cNvPr id="784" name=""/>
            <p:cNvGrpSpPr/>
            <p:nvPr/>
          </p:nvGrpSpPr>
          <p:grpSpPr>
            <a:xfrm>
              <a:off x="2639880" y="5095800"/>
              <a:ext cx="187560" cy="349200"/>
              <a:chOff x="2639880" y="5095800"/>
              <a:chExt cx="187560" cy="349200"/>
            </a:xfrm>
          </p:grpSpPr>
          <p:sp>
            <p:nvSpPr>
              <p:cNvPr id="785" name=""/>
              <p:cNvSpPr/>
              <p:nvPr/>
            </p:nvSpPr>
            <p:spPr>
              <a:xfrm>
                <a:off x="2714760" y="5095800"/>
                <a:ext cx="112680" cy="209520"/>
              </a:xfrm>
              <a:custGeom>
                <a:avLst/>
                <a:gdLst>
                  <a:gd name="textAreaLeft" fmla="*/ 5400 w 112680"/>
                  <a:gd name="textAreaRight" fmla="*/ 107280 w 112680"/>
                  <a:gd name="textAreaTop" fmla="*/ 5400 h 209520"/>
                  <a:gd name="textAreaBottom" fmla="*/ 204120 h 209520"/>
                </a:gdLst>
                <a:ahLst/>
                <a:rect l="textAreaLeft" t="textAreaTop" r="textAreaRight" b="textAreaBottom"/>
                <a:pathLst>
                  <a:path w="21600" h="40104">
                    <a:moveTo>
                      <a:pt x="3600" y="0"/>
                    </a:moveTo>
                    <a:arcTo wR="3600" hR="3600" stAng="16200000" swAng="-5400000"/>
                    <a:lnTo>
                      <a:pt x="0" y="36504"/>
                    </a:lnTo>
                    <a:arcTo wR="3600" hR="3600" stAng="10800000" swAng="-5400000"/>
                    <a:lnTo>
                      <a:pt x="18000" y="4010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2639880" y="5303880"/>
                <a:ext cx="174600" cy="14112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2714760" y="516564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2714760" y="5270400"/>
                <a:ext cx="1126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701800" y="5322960"/>
                <a:ext cx="1126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2678040" y="5357880"/>
                <a:ext cx="1144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2662200" y="5392800"/>
                <a:ext cx="1144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flipH="1">
                <a:off x="2673000" y="5322960"/>
                <a:ext cx="5724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2643120" y="5421240"/>
                <a:ext cx="1126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flipH="1">
                <a:off x="2700360" y="5324400"/>
                <a:ext cx="5544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H="1">
                <a:off x="2728440" y="5322960"/>
                <a:ext cx="57240" cy="950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6" name=""/>
            <p:cNvSpPr/>
            <p:nvPr/>
          </p:nvSpPr>
          <p:spPr>
            <a:xfrm>
              <a:off x="1963800" y="5300640"/>
              <a:ext cx="1280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cc0000"/>
                  </a:solidFill>
                  <a:latin typeface="Siemens Sans"/>
                </a:rPr>
                <a:t>Leopard EG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314080" y="508464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1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3308400" y="5300640"/>
            <a:ext cx="1465200" cy="371520"/>
            <a:chOff x="3308400" y="5300640"/>
            <a:chExt cx="1465200" cy="371520"/>
          </a:xfrm>
        </p:grpSpPr>
        <p:grpSp>
          <p:nvGrpSpPr>
            <p:cNvPr id="799" name=""/>
            <p:cNvGrpSpPr/>
            <p:nvPr/>
          </p:nvGrpSpPr>
          <p:grpSpPr>
            <a:xfrm>
              <a:off x="3308400" y="5300640"/>
              <a:ext cx="111240" cy="371520"/>
              <a:chOff x="3308400" y="5300640"/>
              <a:chExt cx="111240" cy="371520"/>
            </a:xfrm>
          </p:grpSpPr>
          <p:sp>
            <p:nvSpPr>
              <p:cNvPr id="800" name=""/>
              <p:cNvSpPr/>
              <p:nvPr/>
            </p:nvSpPr>
            <p:spPr>
              <a:xfrm>
                <a:off x="3308400" y="5300640"/>
                <a:ext cx="111240" cy="371520"/>
              </a:xfrm>
              <a:custGeom>
                <a:avLst/>
                <a:gdLst>
                  <a:gd name="textAreaLeft" fmla="*/ 5400 w 111240"/>
                  <a:gd name="textAreaRight" fmla="*/ 105840 w 111240"/>
                  <a:gd name="textAreaTop" fmla="*/ 5400 h 371520"/>
                  <a:gd name="textAreaBottom" fmla="*/ 366120 h 371520"/>
                </a:gdLst>
                <a:ahLst/>
                <a:rect l="textAreaLeft" t="textAreaTop" r="textAreaRight" b="textAreaBottom"/>
                <a:pathLst>
                  <a:path w="21600" h="71977">
                    <a:moveTo>
                      <a:pt x="3600" y="0"/>
                    </a:moveTo>
                    <a:arcTo wR="3600" hR="3600" stAng="16200000" swAng="-5400000"/>
                    <a:lnTo>
                      <a:pt x="0" y="68377"/>
                    </a:lnTo>
                    <a:arcTo wR="3600" hR="3600" stAng="10800000" swAng="-5400000"/>
                    <a:lnTo>
                      <a:pt x="18000" y="7197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308400" y="537480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308400" y="548640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3308400" y="552348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308400" y="556056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308400" y="559800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3308400" y="5635080"/>
                <a:ext cx="1112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3391920" y="552348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3363840" y="552348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3336120" y="552348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0" name=""/>
            <p:cNvSpPr/>
            <p:nvPr/>
          </p:nvSpPr>
          <p:spPr>
            <a:xfrm>
              <a:off x="3492360" y="5516640"/>
              <a:ext cx="1281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cc0000"/>
                  </a:solidFill>
                  <a:latin typeface="Siemens Sans"/>
                </a:rPr>
                <a:t>Finch musi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484080" y="534816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2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2" name=""/>
          <p:cNvGrpSpPr/>
          <p:nvPr/>
        </p:nvGrpSpPr>
        <p:grpSpPr>
          <a:xfrm>
            <a:off x="4067280" y="5084640"/>
            <a:ext cx="749160" cy="402480"/>
            <a:chOff x="4067280" y="5084640"/>
            <a:chExt cx="749160" cy="402480"/>
          </a:xfrm>
        </p:grpSpPr>
        <p:grpSp>
          <p:nvGrpSpPr>
            <p:cNvPr id="813" name=""/>
            <p:cNvGrpSpPr/>
            <p:nvPr/>
          </p:nvGrpSpPr>
          <p:grpSpPr>
            <a:xfrm>
              <a:off x="4067280" y="5084640"/>
              <a:ext cx="110880" cy="371520"/>
              <a:chOff x="4067280" y="5084640"/>
              <a:chExt cx="110880" cy="371520"/>
            </a:xfrm>
          </p:grpSpPr>
          <p:sp>
            <p:nvSpPr>
              <p:cNvPr id="814" name=""/>
              <p:cNvSpPr/>
              <p:nvPr/>
            </p:nvSpPr>
            <p:spPr>
              <a:xfrm>
                <a:off x="4067280" y="5084640"/>
                <a:ext cx="110880" cy="371520"/>
              </a:xfrm>
              <a:custGeom>
                <a:avLst/>
                <a:gdLst>
                  <a:gd name="textAreaLeft" fmla="*/ 5400 w 110880"/>
                  <a:gd name="textAreaRight" fmla="*/ 105480 w 110880"/>
                  <a:gd name="textAreaTop" fmla="*/ 5400 h 371520"/>
                  <a:gd name="textAreaBottom" fmla="*/ 366120 h 371520"/>
                </a:gdLst>
                <a:ahLst/>
                <a:rect l="textAreaLeft" t="textAreaTop" r="textAreaRight" b="textAreaBottom"/>
                <a:pathLst>
                  <a:path w="21600" h="72210">
                    <a:moveTo>
                      <a:pt x="3600" y="0"/>
                    </a:moveTo>
                    <a:arcTo wR="3600" hR="3600" stAng="16200000" swAng="-5400000"/>
                    <a:lnTo>
                      <a:pt x="0" y="68610"/>
                    </a:lnTo>
                    <a:arcTo wR="3600" hR="3600" stAng="10800000" swAng="-5400000"/>
                    <a:lnTo>
                      <a:pt x="18000" y="7221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067280" y="515880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4067280" y="527040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4067280" y="530748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4067280" y="534456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4067280" y="538200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4067280" y="5419080"/>
                <a:ext cx="1108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4150440" y="530748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4122720" y="530748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4095000" y="5307480"/>
                <a:ext cx="0" cy="1112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4" name=""/>
            <p:cNvSpPr/>
            <p:nvPr/>
          </p:nvSpPr>
          <p:spPr>
            <a:xfrm>
              <a:off x="4299120" y="5243400"/>
              <a:ext cx="517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cc0000"/>
                  </a:solidFill>
                  <a:latin typeface="Siemens Sans"/>
                </a:rPr>
                <a:t>Herm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cc0000"/>
                  </a:solidFill>
                  <a:latin typeface="Siemens Sans"/>
                </a:rPr>
                <a:t>ga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274640" y="508464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3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3754440" y="5614920"/>
            <a:ext cx="1393920" cy="406440"/>
            <a:chOff x="3754440" y="5614920"/>
            <a:chExt cx="1393920" cy="406440"/>
          </a:xfrm>
        </p:grpSpPr>
        <p:sp>
          <p:nvSpPr>
            <p:cNvPr id="827" name=""/>
            <p:cNvSpPr/>
            <p:nvPr/>
          </p:nvSpPr>
          <p:spPr>
            <a:xfrm>
              <a:off x="3780000" y="5899320"/>
              <a:ext cx="1368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cc0000"/>
                  </a:solidFill>
                  <a:latin typeface="Siemens Sans"/>
                </a:rPr>
                <a:t>Flamingo DTC</a:t>
              </a:r>
              <a:r>
                <a:rPr b="1" i="1" lang="de-DE" sz="800" spc="-1" strike="noStrike">
                  <a:solidFill>
                    <a:srgbClr val="cc0000"/>
                  </a:solidFill>
                  <a:latin typeface="Siemens Sans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4067280" y="5614920"/>
              <a:ext cx="303120" cy="204840"/>
              <a:chOff x="4067280" y="5614920"/>
              <a:chExt cx="303120" cy="204840"/>
            </a:xfrm>
          </p:grpSpPr>
          <p:sp>
            <p:nvSpPr>
              <p:cNvPr id="829" name=""/>
              <p:cNvSpPr/>
              <p:nvPr/>
            </p:nvSpPr>
            <p:spPr>
              <a:xfrm>
                <a:off x="4067280" y="5719680"/>
                <a:ext cx="236520" cy="1000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4151160" y="5734080"/>
                <a:ext cx="152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4119480" y="575784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4098960" y="57834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H="1">
                <a:off x="4113000" y="573408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4071960" y="580248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H="1">
                <a:off x="4147920" y="5735520"/>
                <a:ext cx="76320" cy="6696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H="1">
                <a:off x="4189320" y="573408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4133880" y="5614920"/>
                <a:ext cx="236520" cy="12384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4208400" y="56466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4165560" y="569124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0" name=""/>
            <p:cNvSpPr/>
            <p:nvPr/>
          </p:nvSpPr>
          <p:spPr>
            <a:xfrm>
              <a:off x="3754440" y="5734080"/>
              <a:ext cx="888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iemens Sans"/>
                </a:rPr>
                <a:t>03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5770440" y="5614920"/>
            <a:ext cx="1393920" cy="406440"/>
            <a:chOff x="5770440" y="5614920"/>
            <a:chExt cx="1393920" cy="406440"/>
          </a:xfrm>
        </p:grpSpPr>
        <p:sp>
          <p:nvSpPr>
            <p:cNvPr id="842" name=""/>
            <p:cNvSpPr/>
            <p:nvPr/>
          </p:nvSpPr>
          <p:spPr>
            <a:xfrm>
              <a:off x="5796000" y="5899320"/>
              <a:ext cx="1368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cc0000"/>
                  </a:solidFill>
                  <a:latin typeface="Siemens Sans"/>
                </a:rPr>
                <a:t>Flamingo DTC ID I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3" name=""/>
            <p:cNvGrpSpPr/>
            <p:nvPr/>
          </p:nvGrpSpPr>
          <p:grpSpPr>
            <a:xfrm>
              <a:off x="6083280" y="5614920"/>
              <a:ext cx="303120" cy="204840"/>
              <a:chOff x="6083280" y="5614920"/>
              <a:chExt cx="303120" cy="204840"/>
            </a:xfrm>
          </p:grpSpPr>
          <p:sp>
            <p:nvSpPr>
              <p:cNvPr id="844" name=""/>
              <p:cNvSpPr/>
              <p:nvPr/>
            </p:nvSpPr>
            <p:spPr>
              <a:xfrm>
                <a:off x="6083280" y="5719680"/>
                <a:ext cx="236520" cy="1000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6167160" y="5734080"/>
                <a:ext cx="152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6135480" y="575784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6114960" y="57834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H="1">
                <a:off x="6129000" y="573408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087960" y="580248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H="1">
                <a:off x="6163920" y="5735520"/>
                <a:ext cx="76320" cy="6696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6205320" y="573408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149880" y="5614920"/>
                <a:ext cx="236520" cy="12384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6224400" y="56466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6181560" y="569124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5" name=""/>
            <p:cNvSpPr/>
            <p:nvPr/>
          </p:nvSpPr>
          <p:spPr>
            <a:xfrm>
              <a:off x="5770440" y="5734080"/>
              <a:ext cx="889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iemens Sans"/>
                </a:rPr>
                <a:t>06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6518160" y="4078440"/>
            <a:ext cx="1054080" cy="287280"/>
            <a:chOff x="6518160" y="4078440"/>
            <a:chExt cx="1054080" cy="287280"/>
          </a:xfrm>
        </p:grpSpPr>
        <p:sp>
          <p:nvSpPr>
            <p:cNvPr id="857" name=""/>
            <p:cNvSpPr/>
            <p:nvPr/>
          </p:nvSpPr>
          <p:spPr>
            <a:xfrm>
              <a:off x="6941520" y="4213080"/>
              <a:ext cx="33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Siemens Sans"/>
                </a:rPr>
                <a:t>08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518160" y="4078440"/>
              <a:ext cx="933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de-DE" sz="800" spc="-1" strike="noStrike">
                  <a:solidFill>
                    <a:srgbClr val="cc0000"/>
                  </a:solidFill>
                  <a:latin typeface="Siemens Sans"/>
                </a:rPr>
                <a:t>Flamingo Ca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9" name=""/>
            <p:cNvGrpSpPr/>
            <p:nvPr/>
          </p:nvGrpSpPr>
          <p:grpSpPr>
            <a:xfrm>
              <a:off x="7269120" y="4149720"/>
              <a:ext cx="303120" cy="204840"/>
              <a:chOff x="7269120" y="4149720"/>
              <a:chExt cx="303120" cy="204840"/>
            </a:xfrm>
          </p:grpSpPr>
          <p:sp>
            <p:nvSpPr>
              <p:cNvPr id="860" name=""/>
              <p:cNvSpPr/>
              <p:nvPr/>
            </p:nvSpPr>
            <p:spPr>
              <a:xfrm>
                <a:off x="7269120" y="4254480"/>
                <a:ext cx="236520" cy="10008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7353000" y="4268880"/>
                <a:ext cx="152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7321320" y="429264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7300800" y="43182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flipH="1">
                <a:off x="7314840" y="426888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7273800" y="433728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flipH="1">
                <a:off x="7349760" y="4270320"/>
                <a:ext cx="76320" cy="6696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H="1">
                <a:off x="7391160" y="4268880"/>
                <a:ext cx="76320" cy="6660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7335720" y="4149720"/>
                <a:ext cx="236520" cy="12384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410240" y="418140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7367400" y="4226040"/>
                <a:ext cx="15228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71" name=""/>
          <p:cNvGrpSpPr/>
          <p:nvPr/>
        </p:nvGrpSpPr>
        <p:grpSpPr>
          <a:xfrm>
            <a:off x="5376960" y="4951440"/>
            <a:ext cx="1869840" cy="422640"/>
            <a:chOff x="5376960" y="4951440"/>
            <a:chExt cx="1869840" cy="422640"/>
          </a:xfrm>
        </p:grpSpPr>
        <p:sp>
          <p:nvSpPr>
            <p:cNvPr id="872" name=""/>
            <p:cNvSpPr/>
            <p:nvPr/>
          </p:nvSpPr>
          <p:spPr>
            <a:xfrm>
              <a:off x="5651640" y="5084640"/>
              <a:ext cx="1595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84160"/>
                  <a:tab algn="l" pos="1768320"/>
                  <a:tab algn="l" pos="2652840"/>
                  <a:tab algn="l" pos="3537000"/>
                  <a:tab algn="l" pos="4421160"/>
                  <a:tab algn="l" pos="5305320"/>
                  <a:tab algn="l" pos="6189840"/>
                  <a:tab algn="l" pos="7074000"/>
                  <a:tab algn="l" pos="7958160"/>
                  <a:tab algn="l" pos="8842320"/>
                  <a:tab algn="l" pos="9726480"/>
                  <a:tab algn="l" pos="106110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Siemens Sans"/>
                </a:rPr>
                <a:t>Siskin ID I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651640" y="5221440"/>
              <a:ext cx="477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cc0000"/>
                  </a:solidFill>
                  <a:latin typeface="Siemens Sans"/>
                </a:rPr>
                <a:t>05/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4" name=""/>
            <p:cNvGrpSpPr/>
            <p:nvPr/>
          </p:nvGrpSpPr>
          <p:grpSpPr>
            <a:xfrm>
              <a:off x="5376960" y="4951440"/>
              <a:ext cx="186840" cy="349200"/>
              <a:chOff x="5376960" y="4951440"/>
              <a:chExt cx="186840" cy="349200"/>
            </a:xfrm>
          </p:grpSpPr>
          <p:sp>
            <p:nvSpPr>
              <p:cNvPr id="875" name=""/>
              <p:cNvSpPr/>
              <p:nvPr/>
            </p:nvSpPr>
            <p:spPr>
              <a:xfrm>
                <a:off x="5451480" y="4951440"/>
                <a:ext cx="112320" cy="209520"/>
              </a:xfrm>
              <a:custGeom>
                <a:avLst/>
                <a:gdLst>
                  <a:gd name="textAreaLeft" fmla="*/ 5400 w 112320"/>
                  <a:gd name="textAreaRight" fmla="*/ 106920 w 112320"/>
                  <a:gd name="textAreaTop" fmla="*/ 5400 h 209520"/>
                  <a:gd name="textAreaBottom" fmla="*/ 204120 h 209520"/>
                </a:gdLst>
                <a:ahLst/>
                <a:rect l="textAreaLeft" t="textAreaTop" r="textAreaRight" b="textAreaBottom"/>
                <a:pathLst>
                  <a:path w="21600" h="40233">
                    <a:moveTo>
                      <a:pt x="3600" y="0"/>
                    </a:moveTo>
                    <a:arcTo wR="3600" hR="3600" stAng="16200000" swAng="-5400000"/>
                    <a:lnTo>
                      <a:pt x="0" y="36633"/>
                    </a:lnTo>
                    <a:arcTo wR="3600" hR="3600" stAng="10800000" swAng="-5400000"/>
                    <a:lnTo>
                      <a:pt x="18000" y="4023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5376960" y="5159520"/>
                <a:ext cx="174240" cy="141120"/>
              </a:xfrm>
              <a:custGeom>
                <a:avLst/>
                <a:gdLst/>
                <a:ahLst/>
                <a:rect l="l" t="t" r="r" b="b"/>
                <a:pathLst>
                  <a:path w="297" h="195">
                    <a:moveTo>
                      <a:pt x="126" y="3"/>
                    </a:moveTo>
                    <a:lnTo>
                      <a:pt x="294" y="0"/>
                    </a:lnTo>
                    <a:lnTo>
                      <a:pt x="297" y="27"/>
                    </a:lnTo>
                    <a:lnTo>
                      <a:pt x="174" y="195"/>
                    </a:lnTo>
                    <a:lnTo>
                      <a:pt x="6" y="192"/>
                    </a:lnTo>
                    <a:lnTo>
                      <a:pt x="0" y="174"/>
                    </a:lnTo>
                    <a:lnTo>
                      <a:pt x="126" y="3"/>
                    </a:lnTo>
                    <a:close/>
                  </a:path>
                </a:pathLst>
              </a:custGeom>
              <a:solidFill>
                <a:srgbClr val="e68d34"/>
              </a:solidFill>
              <a:ln w="9360">
                <a:solidFill>
                  <a:srgbClr val="dddddd"/>
                </a:solidFill>
                <a:round/>
              </a:ln>
              <a:effectLst>
                <a:outerShdw dist="36147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5451480" y="5021280"/>
                <a:ext cx="1105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5451480" y="512604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5438520" y="517860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5414760" y="521352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5398920" y="5248440"/>
                <a:ext cx="1141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flipH="1">
                <a:off x="5410080" y="5178600"/>
                <a:ext cx="568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5379840" y="5276880"/>
                <a:ext cx="1123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flipH="1">
                <a:off x="5436720" y="5180040"/>
                <a:ext cx="55080" cy="968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flipH="1">
                <a:off x="5465520" y="5178600"/>
                <a:ext cx="56880" cy="9504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86" name=""/>
          <p:cNvSpPr/>
          <p:nvPr/>
        </p:nvSpPr>
        <p:spPr>
          <a:xfrm>
            <a:off x="5555160" y="4437000"/>
            <a:ext cx="1033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cc0000"/>
                </a:solidFill>
                <a:latin typeface="Arial"/>
              </a:rPr>
              <a:t>Launch price 89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934800" y="4724280"/>
            <a:ext cx="1287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cc0000"/>
                </a:solidFill>
                <a:latin typeface="Arial"/>
              </a:rPr>
              <a:t>TFT Display need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cc0000"/>
                </a:solidFill>
                <a:latin typeface="Arial"/>
              </a:rPr>
              <a:t>Option for MPix need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09:10:57Z</dcterms:created>
  <dc:creator>wolfgang glomb</dc:creator>
  <dc:description/>
  <dc:language>en-US</dc:language>
  <cp:lastModifiedBy>Dr. Thai Lai Pham</cp:lastModifiedBy>
  <dcterms:modified xsi:type="dcterms:W3CDTF">2004-11-30T14:01:01Z</dcterms:modified>
  <cp:revision>66</cp:revision>
  <dc:subject/>
  <dc:title>PowerPoint-Präsentation</dc:title>
</cp:coreProperties>
</file>